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B29-42CA-4C19-B4C3-B2CF21CE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F61-F9B1-441C-A7C1-4CD54375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584-533B-4EBA-9ED3-23216C4C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155-AD2C-414D-84F8-78106B23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6FB-4CD4-44BF-8271-403B2469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5B0-E2B9-4ADC-B09B-DB5FDCF8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129-E338-494F-B1DE-E1CA22B6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9E2-081C-4B74-8CAF-2BFFC7EE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A69-AC67-48D4-A7CB-0A9DA7D3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DF4-CC99-47D7-899A-1D6F5C6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FDB-7F84-4C03-A5C5-5D8E14BE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44D-ABF3-415C-B599-6A57829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FA25-4B7F-4540-A2AF-E87F791F8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home\bokun\camera\vic.ba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Rozproszone Syste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puterow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Środowiska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274" name="javalogo52x88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219320" y="2286000"/>
            <a:ext cx="11430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35053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5105520"/>
            <a:ext cx="1143000" cy="7617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3080" y="39625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RB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39625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7680" y="3962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mni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4000" y="24382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ix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657600" y="2438280"/>
            <a:ext cx="115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WW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3582360" y="51037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bject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4240" y="556092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racle  Infor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90960" y="5145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am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rwery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342900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495288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3733920"/>
            <a:ext cx="1752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ykładowe projekty KI AGH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990720" y="3809880"/>
            <a:ext cx="1371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RIT -2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22096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ng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907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CCANO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7" name="oraclelogo" descr=""/>
          <p:cNvPicPr/>
          <p:nvPr/>
        </p:nvPicPr>
        <p:blipFill>
          <a:blip r:embed="rId8"/>
          <a:stretch/>
        </p:blipFill>
        <p:spPr>
          <a:xfrm>
            <a:off x="2895480" y="2057400"/>
            <a:ext cx="1505160" cy="257040"/>
          </a:xfrm>
          <a:prstGeom prst="rect">
            <a:avLst/>
          </a:prstGeom>
          <a:ln w="0">
            <a:noFill/>
          </a:ln>
        </p:spPr>
      </p:pic>
      <p:pic>
        <p:nvPicPr>
          <p:cNvPr id="298" name="orllogo" descr=""/>
          <p:cNvPicPr/>
          <p:nvPr/>
        </p:nvPicPr>
        <p:blipFill>
          <a:blip r:embed="rId9"/>
          <a:stretch/>
        </p:blipFill>
        <p:spPr>
          <a:xfrm>
            <a:off x="2895480" y="2438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050640" y="3733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5720" y="3733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4952880"/>
            <a:ext cx="136224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Tel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68560" y="5562720"/>
            <a:ext cx="310212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CL,  HP,  INRIA, CC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36232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ystemy wrażli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6280" y="38862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Komponent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system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9400" y="51055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MM w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09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4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15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9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3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7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3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680" y="25909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jęcia podstaw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640" y="365760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chitektury i oprogra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1160" y="47242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y 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4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"/>
          <p:cNvCxnSpPr>
            <a:stCxn id="364" idx="4"/>
            <a:endCxn id="365" idx="3"/>
          </p:cNvCxnSpPr>
          <p:nvPr/>
        </p:nvCxnSpPr>
        <p:spPr>
          <a:xfrm flipH="1" rot="16200000">
            <a:off x="6933240" y="3162240"/>
            <a:ext cx="1982160" cy="610200"/>
          </a:xfrm>
          <a:prstGeom prst="curvedConnector5">
            <a:avLst>
              <a:gd name="adj1" fmla="val 47102"/>
              <a:gd name="adj2" fmla="val 68713"/>
              <a:gd name="adj3" fmla="val 47102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36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emat prezent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162920" y="2819520"/>
            <a:ext cx="838080" cy="285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5200" y="251460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2209680"/>
            <a:ext cx="76320" cy="5716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15200" y="2133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2286000"/>
            <a:ext cx="15228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2"/>
          </p:cNvPr>
          <p:cNvSpPr/>
          <p:nvPr/>
        </p:nvSpPr>
        <p:spPr>
          <a:xfrm>
            <a:off x="1828800" y="3124080"/>
            <a:ext cx="533412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3352680"/>
            <a:ext cx="156852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3276720"/>
            <a:ext cx="914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2514600"/>
            <a:ext cx="99072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259092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029200"/>
            <a:ext cx="99072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502920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layer" descr=""/>
          <p:cNvPicPr/>
          <p:nvPr/>
        </p:nvPicPr>
        <p:blipFill>
          <a:blip r:embed="rId6"/>
          <a:stretch/>
        </p:blipFill>
        <p:spPr>
          <a:xfrm>
            <a:off x="1371600" y="40384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86000" y="3505320"/>
            <a:ext cx="403848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46483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6172200" y="3429000"/>
            <a:ext cx="457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5600520" y="4000320"/>
            <a:ext cx="1600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434340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600">
            <a:off x="2057400" y="4266720"/>
            <a:ext cx="487692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9200" y="3505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365760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0080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2895480"/>
            <a:ext cx="2286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3516800">
            <a:off x="7849080" y="3275640"/>
            <a:ext cx="414360" cy="41580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381880" y="3733920"/>
            <a:ext cx="15264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610480" y="37339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39000">
            <a:off x="8229240" y="3352320"/>
            <a:ext cx="6094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94" idx="3"/>
            <a:endCxn id="365" idx="3"/>
          </p:cNvCxnSpPr>
          <p:nvPr/>
        </p:nvCxnSpPr>
        <p:spPr>
          <a:xfrm flipH="1">
            <a:off x="8228880" y="3546360"/>
            <a:ext cx="608760" cy="912240"/>
          </a:xfrm>
          <a:prstGeom prst="curvedConnector5">
            <a:avLst>
              <a:gd name="adj1" fmla="val -38106"/>
              <a:gd name="adj2" fmla="val 49980"/>
              <a:gd name="adj3" fmla="val -38106"/>
            </a:avLst>
          </a:prstGeom>
          <a:ln w="38160">
            <a:solidFill>
              <a:srgbClr val="3333cc"/>
            </a:solidFill>
            <a:miter/>
          </a:ln>
        </p:spPr>
      </p:cxnSp>
      <p:pic>
        <p:nvPicPr>
          <p:cNvPr id="396" name="player" descr=""/>
          <p:cNvPicPr/>
          <p:nvPr/>
        </p:nvPicPr>
        <p:blipFill>
          <a:blip r:embed="rId7"/>
          <a:stretch/>
        </p:blipFill>
        <p:spPr>
          <a:xfrm flipH="1">
            <a:off x="1600200" y="3657600"/>
            <a:ext cx="457200" cy="353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600200" y="3657600"/>
            <a:ext cx="4572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3809880"/>
            <a:ext cx="1526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3733920"/>
            <a:ext cx="76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373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9600">
            <a:off x="2057400" y="4419360"/>
            <a:ext cx="487692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ff00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PEG -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wolu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9" name="evolution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8487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ojęcie systemu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rozproszo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55800">
            <a:off x="3870000" y="4006800"/>
            <a:ext cx="2895480" cy="2286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8716800">
            <a:off x="3200040" y="4114080"/>
            <a:ext cx="3657600" cy="22860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6064800">
            <a:off x="6027480" y="3954240"/>
            <a:ext cx="1660680" cy="152640"/>
          </a:xfrm>
          <a:custGeom>
            <a:avLst/>
            <a:gdLst>
              <a:gd name="textAreaLeft" fmla="*/ 259200 w 1660680"/>
              <a:gd name="textAreaRight" fmla="*/ 1453320 w 16606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3733920"/>
            <a:ext cx="25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UNIKA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85800"/>
            <a:ext cx="64008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rozprosz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5410080"/>
            <a:ext cx="83844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638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5334120"/>
            <a:ext cx="838440" cy="761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55627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2362320"/>
            <a:ext cx="838080" cy="7617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2590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590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0" y="3352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3526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105520"/>
            <a:ext cx="1568520" cy="129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057400"/>
            <a:ext cx="156852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981080"/>
            <a:ext cx="156816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76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20968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3280" y="5943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3280" y="22096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419720"/>
            <a:ext cx="1981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PROGRAMOWANIE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3152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0948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proszony system kompu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7696080" y="609480"/>
            <a:ext cx="924120" cy="924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082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029200"/>
            <a:ext cx="1568520" cy="1295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8320" y="5867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4956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4197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657600"/>
            <a:ext cx="5333760" cy="9907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E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 flipH="1" rot="16200000">
            <a:off x="3025800" y="2590560"/>
            <a:ext cx="2286720" cy="3505680"/>
          </a:xfrm>
          <a:prstGeom prst="curvedConnector5">
            <a:avLst>
              <a:gd name="adj1" fmla="val 55329"/>
              <a:gd name="adj2" fmla="val 49994"/>
              <a:gd name="adj3" fmla="val 55329"/>
            </a:avLst>
          </a:prstGeom>
          <a:ln w="5724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819520"/>
            <a:ext cx="457200" cy="380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56272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895480"/>
            <a:ext cx="83844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4400" y="3733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14600" y="4724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75acac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IECI KOMPUTEROW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75acac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867280" y="4038480"/>
            <a:ext cx="8478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OKALN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867280" y="4876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EJSKI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67280" y="5791320"/>
            <a:ext cx="933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LEGŁ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2057400" y="3962160"/>
            <a:ext cx="838800" cy="61020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V="1">
            <a:off x="2057040" y="3123360"/>
            <a:ext cx="762840" cy="68652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>
            <a:off x="5028840" y="5181480"/>
            <a:ext cx="762840" cy="6105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5028840" y="4190760"/>
            <a:ext cx="762840" cy="5241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>
            <a:off x="5105160" y="4952520"/>
            <a:ext cx="533880" cy="108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rot="2386800">
            <a:off x="7259760" y="4952520"/>
            <a:ext cx="1884240" cy="1905120"/>
          </a:xfrm>
          <a:prstGeom prst="irregularSeal2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819520"/>
            <a:ext cx="7596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563868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3640" y="533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848720" y="609480"/>
            <a:ext cx="923760" cy="924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315200" cy="99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przęt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0" y="259092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ASOBY OBLICZENIOW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3960" y="55627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jęcie obi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23880" y="2895480"/>
            <a:ext cx="129564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7120" y="32767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971800"/>
            <a:ext cx="13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7120" y="36306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640" y="44956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720" y="4495680"/>
            <a:ext cx="300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352680"/>
            <a:ext cx="761760" cy="228600"/>
          </a:xfrm>
          <a:prstGeom prst="leftRightArrow">
            <a:avLst>
              <a:gd name="adj1" fmla="val 50000"/>
              <a:gd name="adj2" fmla="val 66337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251460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359892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241800"/>
            <a:ext cx="457200" cy="950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304164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3688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304812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42900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2590920"/>
            <a:ext cx="129528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0-05T08:04:42Z</dcterms:modified>
  <cp:revision>35</cp:revision>
  <dc:subject/>
  <dc:title>Bez tytułu slajdu</dc:title>
</cp:coreProperties>
</file>