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722B-60CF-4525-AC34-C2B084989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FADD-6965-4649-B1AF-0BA7C694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FF56-E336-4E59-A20F-5D8D7A547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E75A-7D2D-4341-B56D-837CAC0A1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A433-81DC-46BE-91B2-A4B4793F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2D60-3807-4260-AFFC-D9D388B3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0848-B4D3-4DEB-A33D-9A816570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3E92-1735-418F-A110-C5986227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B14F-A6FF-46FA-A81F-ED624C72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413C-1BE9-464A-A1E2-D991F02D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B6A3-F50A-4235-B904-CE4664E4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4680-5CB5-4ACB-BE36-144314A7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72BE-8131-4958-B5DC-38558AED0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C:\WINDOWS\rundll32.exe amovie.ocx,RunDll /play /close c:\home\kz\sun.mpg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43000" y="2438280"/>
            <a:ext cx="70866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1e1e7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pecjalizowane Aplikacje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cc"/>
                  </a:gs>
                  <a:gs pos="100000">
                    <a:srgbClr val="1e1e7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1e1e7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 Systemie UNIX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cc"/>
                  </a:gs>
                  <a:gs pos="100000">
                    <a:srgbClr val="1e1e7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581280" y="4648320"/>
            <a:ext cx="2057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gor Bokun Krzysztof Zieliński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atedra Informatyki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kademia Górniczo-Hutnicza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095880" y="3352680"/>
            <a:ext cx="2362320" cy="10670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zas reakcji aplik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143000" y="4648320"/>
            <a:ext cx="2514600" cy="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733920" y="4648320"/>
            <a:ext cx="2361960" cy="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172200" y="4038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315200" y="35053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229600" y="22860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57600" y="4419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87692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0968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66680" y="22860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43000" y="2438280"/>
            <a:ext cx="6934320" cy="0"/>
          </a:xfrm>
          <a:prstGeom prst="line">
            <a:avLst/>
          </a:prstGeom>
          <a:ln w="38160">
            <a:solidFill>
              <a:srgbClr val="cc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43000" y="4038480"/>
            <a:ext cx="502920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4038480"/>
            <a:ext cx="91440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15200" y="4038480"/>
            <a:ext cx="83808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051200" y="4834080"/>
            <a:ext cx="1183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r syst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ritical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07160" y="4800600"/>
            <a:ext cx="138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ystem save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tore regi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83800" y="4800600"/>
            <a:ext cx="13665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river’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terrupt rout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end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o wake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leep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955040" y="4800600"/>
            <a:ext cx="123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tu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from  interru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232680" y="483408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75080" y="4800600"/>
            <a:ext cx="1197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che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o run high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314840" y="4800600"/>
            <a:ext cx="94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alc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75440" y="3767040"/>
            <a:ext cx="152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terrupt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309360" y="3462480"/>
            <a:ext cx="82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lat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315920" y="3429000"/>
            <a:ext cx="71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661040" y="4376880"/>
            <a:ext cx="137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terrupt lat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91840" y="4343400"/>
            <a:ext cx="166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terrupt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642120" y="20908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pplication respons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74880" y="1785960"/>
            <a:ext cx="78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756560" y="1785960"/>
            <a:ext cx="91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o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066680" y="4800600"/>
            <a:ext cx="5257800" cy="12952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zełączanie konteks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1143000" y="3733920"/>
            <a:ext cx="3505320" cy="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00600" y="3733920"/>
            <a:ext cx="1752480" cy="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3657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55308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229600" y="22860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066680" y="22096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43000" y="2438280"/>
            <a:ext cx="6934320" cy="0"/>
          </a:xfrm>
          <a:prstGeom prst="line">
            <a:avLst/>
          </a:prstGeom>
          <a:ln w="38160">
            <a:solidFill>
              <a:srgbClr val="cc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143000" y="3200400"/>
            <a:ext cx="533412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29400" y="3733920"/>
            <a:ext cx="152388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232680" y="483408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08400" y="3809880"/>
            <a:ext cx="1197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che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o run high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iority 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57640" y="3886200"/>
            <a:ext cx="94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alc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199680" y="281952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ispatch lat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011360" y="2666880"/>
            <a:ext cx="71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642120" y="20908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pplication respons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75960" y="1785960"/>
            <a:ext cx="73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756560" y="1785960"/>
            <a:ext cx="91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o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829160" y="3809880"/>
            <a:ext cx="2404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Low-priority process rel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ources or provide input 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higher priority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537560" y="5029200"/>
            <a:ext cx="414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Dispatch latency                 około 1 msec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517760" y="5622840"/>
            <a:ext cx="48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Przełączanie wątku             kilkaset razy szybs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657600" y="5105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657600" y="5638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rządzanie  pamięci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1140120" y="2498760"/>
            <a:ext cx="667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agwarantowanie ciągłego obszaru obszaru pamięci dla wykona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u w pamięci operacyjnej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596960" y="3505320"/>
            <a:ext cx="595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99"/>
                </a:solidFill>
                <a:latin typeface="Arial"/>
              </a:rPr>
              <a:t>Memory  Locking              zapobiega wymianom st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09880" y="350532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ff0066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30800" y="4114800"/>
            <a:ext cx="2009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mlo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mlockall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munlo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munlockall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0c0c0"/>
                </a:solidFill>
                <a:latin typeface="Times New Roman"/>
              </a:rPr>
              <a:t>Sun MediaCenter 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3886200" y="3124080"/>
            <a:ext cx="4114800" cy="2057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2120" y="3200400"/>
            <a:ext cx="175248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SM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62120" y="4419720"/>
            <a:ext cx="175248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M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90920" y="3429000"/>
            <a:ext cx="1143000" cy="304920"/>
          </a:xfrm>
          <a:prstGeom prst="leftRightArrow">
            <a:avLst>
              <a:gd name="adj1" fmla="val 50000"/>
              <a:gd name="adj2" fmla="val 74623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590920" y="4724280"/>
            <a:ext cx="1143000" cy="304920"/>
          </a:xfrm>
          <a:prstGeom prst="leftRightArrow">
            <a:avLst>
              <a:gd name="adj1" fmla="val 50000"/>
              <a:gd name="adj2" fmla="val 74623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31240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31240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86200" y="41148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64680" y="32767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edia Stre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ng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962880" y="4419720"/>
            <a:ext cx="173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ontent Mng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945400" y="3809880"/>
            <a:ext cx="82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.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937200" y="3581280"/>
            <a:ext cx="96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Low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077320" y="3429000"/>
            <a:ext cx="6858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077320" y="4114800"/>
            <a:ext cx="6858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077320" y="4343400"/>
            <a:ext cx="6858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077320" y="4572000"/>
            <a:ext cx="6858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077320" y="4800600"/>
            <a:ext cx="6858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077320" y="3657600"/>
            <a:ext cx="6858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077320" y="3886200"/>
            <a:ext cx="6858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66880" y="44956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44640" y="411480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988400" y="5370480"/>
            <a:ext cx="105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atforma sprzęt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360" name="smc" descr=""/>
          <p:cNvPicPr/>
          <p:nvPr/>
        </p:nvPicPr>
        <p:blipFill>
          <a:blip r:embed="rId2"/>
          <a:stretch/>
        </p:blipFill>
        <p:spPr>
          <a:xfrm>
            <a:off x="1905120" y="1905120"/>
            <a:ext cx="5562360" cy="36576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61" name=""/>
          <p:cNvSpPr/>
          <p:nvPr/>
        </p:nvSpPr>
        <p:spPr>
          <a:xfrm>
            <a:off x="687600" y="58672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50 G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354840" y="5867280"/>
            <a:ext cx="22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SUN Media  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7696080" y="2819520"/>
            <a:ext cx="609840" cy="838080"/>
          </a:xfrm>
          <a:prstGeom prst="ellipse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162920" y="3124080"/>
            <a:ext cx="761760" cy="533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19320" y="2819520"/>
            <a:ext cx="609480" cy="838080"/>
          </a:xfrm>
          <a:prstGeom prst="ellipse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23880" y="3124080"/>
            <a:ext cx="762120" cy="533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cenariusze użycia S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3429000" y="2362320"/>
            <a:ext cx="2133720" cy="99036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0" y="2590920"/>
            <a:ext cx="1143000" cy="53316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cccff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514600" y="289548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3" name=""/>
          <p:cNvCxnSpPr>
            <a:stCxn id="370" idx="3"/>
            <a:endCxn id="371" idx="1"/>
          </p:cNvCxnSpPr>
          <p:nvPr/>
        </p:nvCxnSpPr>
        <p:spPr>
          <a:xfrm>
            <a:off x="5562720" y="2857320"/>
            <a:ext cx="1296000" cy="1080"/>
          </a:xfrm>
          <a:prstGeom prst="straightConnector1">
            <a:avLst/>
          </a:prstGeom>
          <a:ln w="76320">
            <a:solidFill>
              <a:srgbClr val="000099"/>
            </a:solidFill>
            <a:miter/>
          </a:ln>
        </p:spPr>
      </p:cxnSp>
      <p:sp>
        <p:nvSpPr>
          <p:cNvPr id="374" name=""/>
          <p:cNvSpPr/>
          <p:nvPr/>
        </p:nvSpPr>
        <p:spPr>
          <a:xfrm>
            <a:off x="1523880" y="3657600"/>
            <a:ext cx="655344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745000" y="3809880"/>
            <a:ext cx="31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PEG-1 or MPEG-2 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516040" y="236232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819520" y="4952880"/>
            <a:ext cx="2133360" cy="9907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562720" y="5181480"/>
            <a:ext cx="1143000" cy="5335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cccff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80880" y="5257800"/>
            <a:ext cx="137160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05120" y="548640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stCxn id="377" idx="3"/>
            <a:endCxn id="378" idx="1"/>
          </p:cNvCxnSpPr>
          <p:nvPr/>
        </p:nvCxnSpPr>
        <p:spPr>
          <a:xfrm>
            <a:off x="4952880" y="5447880"/>
            <a:ext cx="610560" cy="1080"/>
          </a:xfrm>
          <a:prstGeom prst="straightConnector1">
            <a:avLst/>
          </a:prstGeom>
          <a:ln w="76320">
            <a:solidFill>
              <a:srgbClr val="000099"/>
            </a:solidFill>
            <a:miter/>
          </a:ln>
        </p:spPr>
      </p:cxnSp>
      <p:sp>
        <p:nvSpPr>
          <p:cNvPr id="382" name=""/>
          <p:cNvSpPr/>
          <p:nvPr/>
        </p:nvSpPr>
        <p:spPr>
          <a:xfrm>
            <a:off x="1906560" y="495288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620120" y="4343400"/>
            <a:ext cx="8380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Set-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696080" y="5791320"/>
            <a:ext cx="83844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Set-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6781320" y="4648320"/>
            <a:ext cx="838440" cy="685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781680" y="5410080"/>
            <a:ext cx="914400" cy="685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777280" y="1865160"/>
            <a:ext cx="8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-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990720" y="2666880"/>
            <a:ext cx="1371600" cy="487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7772400" y="4343400"/>
            <a:ext cx="609480" cy="838080"/>
          </a:xfrm>
          <a:prstGeom prst="ellipse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238880" y="4648320"/>
            <a:ext cx="762120" cy="533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95280" y="4343400"/>
            <a:ext cx="609840" cy="838080"/>
          </a:xfrm>
          <a:prstGeom prst="ellipse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00200" y="4648320"/>
            <a:ext cx="762120" cy="533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cenariusze użycia S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505320" y="3886200"/>
            <a:ext cx="2133360" cy="9907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934320" y="4114800"/>
            <a:ext cx="1143000" cy="5335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cccff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590920" y="44197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9" name=""/>
          <p:cNvCxnSpPr>
            <a:stCxn id="396" idx="3"/>
            <a:endCxn id="397" idx="1"/>
          </p:cNvCxnSpPr>
          <p:nvPr/>
        </p:nvCxnSpPr>
        <p:spPr>
          <a:xfrm>
            <a:off x="5638320" y="4381200"/>
            <a:ext cx="1296360" cy="1080"/>
          </a:xfrm>
          <a:prstGeom prst="straightConnector1">
            <a:avLst/>
          </a:prstGeom>
          <a:ln w="76320">
            <a:solidFill>
              <a:srgbClr val="000099"/>
            </a:solidFill>
            <a:miter/>
          </a:ln>
        </p:spPr>
      </p:cxnSp>
      <p:sp>
        <p:nvSpPr>
          <p:cNvPr id="400" name=""/>
          <p:cNvSpPr/>
          <p:nvPr/>
        </p:nvSpPr>
        <p:spPr>
          <a:xfrm>
            <a:off x="1600200" y="5181480"/>
            <a:ext cx="655308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821320" y="5334120"/>
            <a:ext cx="31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PEG-1 or MPEG-2 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363760" y="358128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53240" y="3389400"/>
            <a:ext cx="8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-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066680" y="4191120"/>
            <a:ext cx="1371600" cy="48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143000" y="2438280"/>
            <a:ext cx="1219320" cy="7621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mpres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514600" y="2895480"/>
            <a:ext cx="1066680" cy="1143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533160" y="4724280"/>
            <a:ext cx="609480" cy="121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94000" y="5827680"/>
            <a:ext cx="20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Wizualizacja z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opóźnieniem  2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4876920" y="2895480"/>
            <a:ext cx="9144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19720" y="224640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Zapamiętani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nformac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2666880" y="2895480"/>
            <a:ext cx="3657600" cy="2362320"/>
          </a:xfrm>
          <a:prstGeom prst="irregularSeal2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ideo na żąda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3352680" y="2133720"/>
            <a:ext cx="2133720" cy="99036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10080" y="5029200"/>
            <a:ext cx="1371600" cy="487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057400" y="4952880"/>
            <a:ext cx="1371600" cy="487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33920" y="5791320"/>
            <a:ext cx="1371600" cy="48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120" y="4114800"/>
            <a:ext cx="1371600" cy="487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858000" y="4114800"/>
            <a:ext cx="1371600" cy="487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2209320" y="3124080"/>
            <a:ext cx="2057400" cy="114300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2895480" y="3124080"/>
            <a:ext cx="1447920" cy="16765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419720" y="3124080"/>
            <a:ext cx="75960" cy="251460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495680" y="3124080"/>
            <a:ext cx="1600200" cy="17528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572000" y="3124080"/>
            <a:ext cx="2286000" cy="12193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462720" y="300816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Do 50 strumie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Interface użytkown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430" name="vfs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86200" y="2057400"/>
            <a:ext cx="46483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Specjalizowane zastosowanie systemu Lin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762120" y="2590920"/>
            <a:ext cx="380880" cy="380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76520" y="251460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Arial"/>
              </a:rPr>
              <a:t>Wykorzystanie systemu Linux do realizacji modułu </a:t>
            </a:r>
            <a:r>
              <a:rPr b="1" i="1" lang="pl-PL" sz="2400" spc="-1" strike="noStrike">
                <a:solidFill>
                  <a:srgbClr val="3333cc"/>
                </a:solidFill>
                <a:latin typeface="Arial"/>
              </a:rPr>
              <a:t>poller</a:t>
            </a:r>
            <a:r>
              <a:rPr b="1" lang="pl-PL" sz="2400" spc="-1" strike="noStrike">
                <a:solidFill>
                  <a:srgbClr val="3333cc"/>
                </a:solidFill>
                <a:latin typeface="Arial"/>
              </a:rPr>
              <a:t> systemu ActiveBa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76520" y="3429000"/>
            <a:ext cx="32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Arial"/>
              </a:rPr>
              <a:t>Aplikacja </a:t>
            </a:r>
            <a:r>
              <a:rPr b="1" i="1" lang="pl-PL" sz="2400" spc="-1" strike="noStrike">
                <a:solidFill>
                  <a:srgbClr val="3333cc"/>
                </a:solidFill>
                <a:latin typeface="Arial"/>
              </a:rPr>
              <a:t>Abng p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62120" y="3429000"/>
            <a:ext cx="380880" cy="3808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62120" y="4800600"/>
            <a:ext cx="380880" cy="3808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62120" y="4114800"/>
            <a:ext cx="380880" cy="3808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62120" y="4114800"/>
            <a:ext cx="380880" cy="30492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751040" y="4038480"/>
            <a:ext cx="69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Arial"/>
              </a:rPr>
              <a:t>LinuxPiccolo - specjalizowana wersja syste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752480" y="47242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Arial"/>
              </a:rPr>
              <a:t>Systemy multimedialne wrażliwe na lokalizację użytkownik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kres wykła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23880" y="1981080"/>
            <a:ext cx="381240" cy="3812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6040" y="594360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osumow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3962520"/>
            <a:ext cx="381240" cy="3808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2514600"/>
            <a:ext cx="381240" cy="3808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14960" y="4876920"/>
            <a:ext cx="33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Aplikacja Abng-p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38640" y="3048120"/>
            <a:ext cx="526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Aplikacje RT w systemie SOLARIS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SUN MEDIA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3880" y="3048120"/>
            <a:ext cx="381240" cy="3808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4876920"/>
            <a:ext cx="381240" cy="38088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5410080"/>
            <a:ext cx="381240" cy="38124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37920" y="3962520"/>
            <a:ext cx="551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Specjalizowane aplikacje w syste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Linu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40800" y="259092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ybrane aspekty R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15320" y="5410080"/>
            <a:ext cx="33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System Linux Picc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6019920"/>
            <a:ext cx="381240" cy="38088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9000" y="198108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prowadz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System Active Ba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685800" y="2154240"/>
            <a:ext cx="7620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ystem Active Badge został zaprojektowany w Olivetti &amp; Oracle Research Laboratory (ORL) w Cambridge. Celem projektu było stworzenie infrastruktury sprzętowej oraz programowej, umożliwiającej realizację aplikacji wrażliwych na lokalizację osób i przedmiotó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zykładowe zastosowania systemu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3886200"/>
            <a:ext cx="228600" cy="2286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143000" y="3809880"/>
            <a:ext cx="754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omatyczne otwieranie drzwi w momencie, gdy osoba uprawniona do wejścia do danego pomieszczenia zbliży się do drzw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62120" y="4495680"/>
            <a:ext cx="228600" cy="2286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143000" y="4419720"/>
            <a:ext cx="754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omatyczne sterowanie oświetleniem na podstawie informacji o obecności osób w pomieszczeni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120" y="5029200"/>
            <a:ext cx="228600" cy="2286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143000" y="4952880"/>
            <a:ext cx="75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Teleporting komputerowego środowiska pracy. Przejście osoby do innego pomieszczenia może spowodować przeniesienie środowiska graficznego na najbliższy kompu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62120" y="5867280"/>
            <a:ext cx="228600" cy="2286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143000" y="579132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Inteligentne rutowanie połączeń telefoniczny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lementy  sprzętowe syst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458" name="badge" descr=""/>
          <p:cNvPicPr/>
          <p:nvPr/>
        </p:nvPicPr>
        <p:blipFill>
          <a:blip r:embed="rId2"/>
          <a:srcRect l="56272" t="0" r="0" b="9129"/>
          <a:stretch/>
        </p:blipFill>
        <p:spPr>
          <a:xfrm>
            <a:off x="685800" y="1828800"/>
            <a:ext cx="1436760" cy="152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9" name=""/>
          <p:cNvSpPr/>
          <p:nvPr/>
        </p:nvSpPr>
        <p:spPr>
          <a:xfrm>
            <a:off x="2209680" y="198108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tywne plakietki noszone przez użytkowników systemu, bądź przytwierdzone do sprzę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sensor" descr=""/>
          <p:cNvPicPr/>
          <p:nvPr/>
        </p:nvPicPr>
        <p:blipFill>
          <a:blip r:embed="rId3"/>
          <a:stretch/>
        </p:blipFill>
        <p:spPr>
          <a:xfrm>
            <a:off x="6019920" y="1828800"/>
            <a:ext cx="2449440" cy="434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1" name=""/>
          <p:cNvSpPr/>
          <p:nvPr/>
        </p:nvSpPr>
        <p:spPr>
          <a:xfrm>
            <a:off x="457200" y="5029200"/>
            <a:ext cx="542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sory rozmieszczone w pomieszczeniach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dbierające sygnały od plakietek. Komunikacja odbywa się za pośrednictwem podczerwien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System Active Badge next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669960" y="2093760"/>
            <a:ext cx="8093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ystem Active Badge, który powstał na początku lat dziewięćdziesiątych oparty jest o środowisko programowania rozproszonego ANSAWare. Biorąc pod uwagę rozwój w dziedzinie systemów rozproszonych, a w szczególności wprowadzenie i rozpowszechnienie standardu CORBA, zaistniała konieczność zaprojektowania nowoczesnego następcy systemu Active Bad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9480" y="42670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99"/>
                </a:solidFill>
                <a:latin typeface="Arial"/>
              </a:rPr>
              <a:t>Active Badge next generation (ABng) jest rozproszonym, obiektowym systemem opartym o nowoczesną architekturę CORBA, w którym dużą uwagę skupiono na zagadnieniach skalowalności oraz elastycznośc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Moduł ABng po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0" name=""/>
          <p:cNvGraphicFramePr/>
          <p:nvPr/>
        </p:nvGraphicFramePr>
        <p:xfrm>
          <a:off x="2666880" y="2971800"/>
          <a:ext cx="3562560" cy="352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2971800"/>
                    <a:ext cx="3562560" cy="35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2" name=""/>
          <p:cNvSpPr/>
          <p:nvPr/>
        </p:nvSpPr>
        <p:spPr>
          <a:xfrm>
            <a:off x="685800" y="1752480"/>
            <a:ext cx="8001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Jednym z elementów systemu Active Badge next generation jest ABng p</a:t>
            </a:r>
            <a:r>
              <a:rPr b="1" i="1" lang="pl-PL" sz="1600" spc="-1" strike="noStrike">
                <a:solidFill>
                  <a:srgbClr val="000000"/>
                </a:solidFill>
                <a:latin typeface="Arial"/>
              </a:rPr>
              <a:t>oller.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ełni on funkcje warstwy pośredniczącej pomiędzy sensorami a pozostałymi obiektami systemu. Jako platformę systemową do implementacji modułu wybrano system Linu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Linux na platformie PC/1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609480" y="1905120"/>
            <a:ext cx="816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Architektura PC/104 została opracowana w 1992 roku w odpowiedzi na rosnące zapotrzebowanie na rozwiązanie zgodne ze standardową architekturą PC, dostosowane do zastosowań w tzw. systemach wbudowanych (embedd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3520" y="3276720"/>
            <a:ext cx="8305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187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dstawowe różnice pomiędzy urządzeniami PC/104 a tradycyjnymi P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187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mniejszone wymiary (3.6”x3.8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187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ewielki pobór mocy (1-2 W na moduł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187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ny standard złącza magistralowego, zapewniający większą niezawodność połączeń oraz możliwość łączenia modułów w 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9480" y="4876920"/>
            <a:ext cx="8169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ruchomienie systemu operacyjnego Linux na komputerach opartych o architekturę PC/104 nie przysparza większych problemów. Ze względu na dostępność kodu źródłowego systemu oraz aplikacji, Linux stanowi bardzo elastyczną, dojrzałą oraz łatwą w rozbudowie platformę dla systemów typu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embedded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yb pracy z wykorzystaniem Sieciowego Systemu Plików (N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2" name=""/>
          <p:cNvGraphicFramePr/>
          <p:nvPr/>
        </p:nvGraphicFramePr>
        <p:xfrm>
          <a:off x="1600200" y="2590920"/>
          <a:ext cx="5943600" cy="248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2590920"/>
                    <a:ext cx="5943600" cy="24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Wykorzystanie dysków typu </a:t>
            </a:r>
            <a:r>
              <a:rPr b="1" i="1" lang="pl-PL" sz="2800" spc="-1" strike="noStrike">
                <a:solidFill>
                  <a:srgbClr val="ffffff"/>
                </a:solidFill>
                <a:latin typeface="Times New Roman"/>
              </a:rPr>
              <a:t>Fl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487" name="doc" descr=""/>
          <p:cNvPicPr/>
          <p:nvPr/>
        </p:nvPicPr>
        <p:blipFill>
          <a:blip r:embed="rId2"/>
          <a:stretch/>
        </p:blipFill>
        <p:spPr>
          <a:xfrm>
            <a:off x="762120" y="3581280"/>
            <a:ext cx="1257120" cy="95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8" name=""/>
          <p:cNvSpPr/>
          <p:nvPr/>
        </p:nvSpPr>
        <p:spPr>
          <a:xfrm>
            <a:off x="669960" y="1865160"/>
            <a:ext cx="763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ykorzystanie NFS jest wygodne w początkowej fazie rozwoju systemu, kiedy występuje częsta aktualizacja plików (np. wskutek rekompilacji programu). Docelowo jednak urządzenie powinno być całkowicie niezależne od zewnętrznych serwisó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71760" y="316080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mys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057400" y="3429000"/>
            <a:ext cx="656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99"/>
                </a:solidFill>
                <a:latin typeface="Arial"/>
              </a:rPr>
              <a:t>umieścić obraz jądra systemu oraz root filesystem w pamięci Flash. W przypadku gdy istotna jest miniaturyzacja urządzenia, DiskOnChip firmy M-Systems wydaje się być optymalnym rozwiązani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7240" y="495288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yzwani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057400" y="4981680"/>
            <a:ext cx="65689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99"/>
                </a:solidFill>
                <a:latin typeface="Arial"/>
              </a:rPr>
              <a:t>Ze względu na stosunkowo wysoką cenę dysków typu Flash należy zmodyfikować system Linux, by rozmiar jądra oraz systemu plików, wraz z aplikacjami nie przekroczył 6-8 MB -&gt;</a:t>
            </a:r>
            <a:r>
              <a:rPr b="1" i="1" lang="pl-PL" sz="2000" spc="-1" strike="noStrike">
                <a:solidFill>
                  <a:srgbClr val="000099"/>
                </a:solidFill>
                <a:latin typeface="Arial"/>
              </a:rPr>
              <a:t> LinuxPiccolo</a:t>
            </a:r>
            <a:r>
              <a:rPr b="1" i="1" lang="pl-PL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ces inicjalizacji syst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380880" y="6095880"/>
            <a:ext cx="87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* w sierpniu 1998 firma M-Systems wprowadziła to beta testów sterowniki DiskOnChip dla systemu Linu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190512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 techniczn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62120" y="2286000"/>
            <a:ext cx="656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99"/>
                </a:solidFill>
                <a:latin typeface="Arial"/>
              </a:rPr>
              <a:t>DiskOnChip dostarczany jest wyłącznie ze sterownikami dla systemów DOS, QNX oraz Windows 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59000" y="2986200"/>
            <a:ext cx="32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związanie (tymczasowe?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62120" y="354960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99"/>
                </a:solidFill>
                <a:latin typeface="Arial"/>
              </a:rPr>
              <a:t>Uruchomić system pod kontrolą „systemu” DOS. Umieścić w pamięci RAM obraz systemu plików wraz z aplikacjami, a następnie wykorzystując program loadlin rozpocząć inicjalizację systemu Linux. Po otrzymaniu sterowania system Linux stworzy RAM dysk, w którym umieści wprowadzony obraz systemu plików „przekazany” z poziomu DOSa. Podstawową wadą tego rozwiązania jest tryb pracy read-only. W przypadku aplikacji ABng poller, ograniczenie to jest akceptowal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ces inicjalizacji systemu - sche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4" name=""/>
          <p:cNvGraphicFramePr/>
          <p:nvPr/>
        </p:nvGraphicFramePr>
        <p:xfrm>
          <a:off x="1523880" y="1905120"/>
          <a:ext cx="5832720" cy="421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05120"/>
                    <a:ext cx="5832720" cy="42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rządzanie za pośrednictwem WW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9" name=""/>
          <p:cNvGraphicFramePr/>
          <p:nvPr/>
        </p:nvGraphicFramePr>
        <p:xfrm>
          <a:off x="1371600" y="1981080"/>
          <a:ext cx="6624720" cy="354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981080"/>
                    <a:ext cx="662472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219320" y="5257800"/>
            <a:ext cx="24382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2133720"/>
            <a:ext cx="2286000" cy="29718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ndencje rozwoju R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447920" y="3048120"/>
            <a:ext cx="1447560" cy="703440"/>
          </a:xfrm>
          <a:prstGeom prst="rect">
            <a:avLst/>
          </a:prstGeom>
          <a:noFill/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ff"/>
                </a:solidFill>
                <a:latin typeface="Arial"/>
              </a:rPr>
              <a:t>UN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79400" y="5389560"/>
            <a:ext cx="13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"/>
              </a:rPr>
              <a:t>Java</a:t>
            </a:r>
            <a:r>
              <a:rPr b="1" lang="pl-PL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ffff00"/>
                </a:solidFill>
                <a:latin typeface="Arial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40640" y="175248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3320" y="175248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en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57800" y="2093760"/>
            <a:ext cx="2149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QNX Soft.Sy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RadiS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Mrcoware Sy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Chours Sy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C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New Mexico Te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Unv. O\of Ariz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9880" y="2133720"/>
            <a:ext cx="1524240" cy="2971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25520" y="2117880"/>
            <a:ext cx="10465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Solar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Sp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QN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iRM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Lyn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OS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Chor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Chim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RT M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RT Lin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x-Ker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Urządzenie ABng po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514" name="poller1" descr=""/>
          <p:cNvPicPr/>
          <p:nvPr/>
        </p:nvPicPr>
        <p:blipFill>
          <a:blip r:embed="rId2"/>
          <a:stretch/>
        </p:blipFill>
        <p:spPr>
          <a:xfrm>
            <a:off x="1981080" y="2133720"/>
            <a:ext cx="5043600" cy="387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aliza przedstawionego rozwiąz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518" name="OldNew" descr=""/>
          <p:cNvPicPr/>
          <p:nvPr/>
        </p:nvPicPr>
        <p:blipFill>
          <a:blip r:embed="rId2"/>
          <a:stretch/>
        </p:blipFill>
        <p:spPr>
          <a:xfrm>
            <a:off x="4191120" y="2362320"/>
            <a:ext cx="4190760" cy="296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9" name=""/>
          <p:cNvSpPr/>
          <p:nvPr/>
        </p:nvSpPr>
        <p:spPr>
          <a:xfrm>
            <a:off x="609480" y="1752480"/>
            <a:ext cx="3521160" cy="49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naczne zmniejszenie gabarytów urządze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yeliminowanie konsoli, konfiguracja urządzenia odbywa się poprzez sie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niejszy pobór mo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yeliminowanie części mechanicznych - zwiększenie niezawodności syste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uża stabilność systemu Linux, dostępność dojrzałych implementacji standardu COR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niska c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Systemy multimedialne wrażliwe na lokalizacj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69960" y="2170080"/>
            <a:ext cx="771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łączenie rozwijanych w Katedrze Informatyki AGH systemów multimedialnych z infrastrukturą ABng daje możliwości prowadzenia badań nad nowym typem aplikacj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914400" y="3200400"/>
            <a:ext cx="656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99"/>
                </a:solidFill>
                <a:latin typeface="Arial"/>
              </a:rPr>
              <a:t>Aplikacji multimedialnych, wrażliwych na lokalizację użytkownikó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38847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zykła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22240" y="4456080"/>
            <a:ext cx="771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zmieszczone w budynku kamery na bieżąco „śledzą” daną osobę, dostarczając za pośrednictwem sieci komputerowej obraz do centrum monitorowan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33520" y="4495680"/>
            <a:ext cx="228600" cy="2286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38080" y="5408640"/>
            <a:ext cx="77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Aplikacje „follow me video”, w których sekwencje wideo  „podążają” za zmieniającym lokalizację użytkowniki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33520" y="5486400"/>
            <a:ext cx="228600" cy="2286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Rozwój aplikacji 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66680" y="2895480"/>
            <a:ext cx="1219320" cy="3276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71800" y="4343400"/>
            <a:ext cx="1219320" cy="182880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4280" y="5257800"/>
            <a:ext cx="11430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Embe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00800" y="5715000"/>
            <a:ext cx="1066680" cy="4572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53360" y="1736640"/>
            <a:ext cx="144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Desktop 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Entr. Ser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Mainfra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23120" y="2666880"/>
            <a:ext cx="1610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RTOS Vend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Set-top box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ScreenPh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Internet T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Car Navig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35360" y="3870360"/>
            <a:ext cx="1543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Industr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Control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Prin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Hi-end Pag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87480" y="4937040"/>
            <a:ext cx="132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SmartC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Java 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98160" y="4343400"/>
            <a:ext cx="6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Model Java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87" name="architecture" descr=""/>
          <p:cNvPicPr/>
          <p:nvPr/>
        </p:nvPicPr>
        <p:blipFill>
          <a:blip r:embed="rId2"/>
          <a:stretch/>
        </p:blipFill>
        <p:spPr>
          <a:xfrm>
            <a:off x="1143000" y="1976400"/>
            <a:ext cx="670572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dstawowe cechy R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523880" y="2133720"/>
            <a:ext cx="381240" cy="380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1960" y="213372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odel wątk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2895480"/>
            <a:ext cx="381240" cy="3812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9360" y="2819520"/>
            <a:ext cx="37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Zarządzanie prioryteta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40800" y="3505320"/>
            <a:ext cx="35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zełączanie konteks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3505320"/>
            <a:ext cx="381240" cy="3808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3880" y="5029200"/>
            <a:ext cx="381240" cy="3808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4343400"/>
            <a:ext cx="381240" cy="38088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6400" y="4267080"/>
            <a:ext cx="33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Zarządzanie pamięci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15680" y="5029200"/>
            <a:ext cx="29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Urządzenia WE/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981080" y="6019920"/>
            <a:ext cx="4648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olari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del  wątk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828800" y="4952880"/>
            <a:ext cx="6019920" cy="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320040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81080" y="2362320"/>
            <a:ext cx="685800" cy="838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2362320"/>
            <a:ext cx="838440" cy="838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2362320"/>
            <a:ext cx="1218960" cy="838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2362320"/>
            <a:ext cx="1447920" cy="838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30481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3124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3124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124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3124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3124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53080" y="3124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800600"/>
            <a:ext cx="304920" cy="304920"/>
          </a:xfrm>
          <a:prstGeom prst="pentagon">
            <a:avLst/>
          </a:prstGeom>
          <a:gradFill rotWithShape="0">
            <a:gsLst>
              <a:gs pos="0">
                <a:srgbClr val="3333cc"/>
              </a:gs>
              <a:gs pos="50000">
                <a:srgbClr val="0000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4800600"/>
            <a:ext cx="304560" cy="304920"/>
          </a:xfrm>
          <a:prstGeom prst="pentagon">
            <a:avLst/>
          </a:prstGeom>
          <a:gradFill rotWithShape="0">
            <a:gsLst>
              <a:gs pos="0">
                <a:srgbClr val="3333cc"/>
              </a:gs>
              <a:gs pos="50000">
                <a:srgbClr val="0000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57800" y="4800600"/>
            <a:ext cx="304920" cy="304920"/>
          </a:xfrm>
          <a:prstGeom prst="pentagon">
            <a:avLst/>
          </a:prstGeom>
          <a:gradFill rotWithShape="0">
            <a:gsLst>
              <a:gs pos="0">
                <a:srgbClr val="3333cc"/>
              </a:gs>
              <a:gs pos="50000">
                <a:srgbClr val="0000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15200" y="4800600"/>
            <a:ext cx="304920" cy="304920"/>
          </a:xfrm>
          <a:prstGeom prst="pentagon">
            <a:avLst/>
          </a:prstGeom>
          <a:gradFill rotWithShape="0">
            <a:gsLst>
              <a:gs pos="0">
                <a:srgbClr val="3333cc"/>
              </a:gs>
              <a:gs pos="50000">
                <a:srgbClr val="0000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4800600"/>
            <a:ext cx="304920" cy="304920"/>
          </a:xfrm>
          <a:prstGeom prst="pentagon">
            <a:avLst/>
          </a:prstGeom>
          <a:gradFill rotWithShape="0">
            <a:gsLst>
              <a:gs pos="0">
                <a:srgbClr val="3333cc"/>
              </a:gs>
              <a:gs pos="50000">
                <a:srgbClr val="0000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29400" y="380988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467480" y="380988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15200" y="4038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0" y="373392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33720" y="3886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380988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5760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76920" y="3809880"/>
            <a:ext cx="7596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4280" y="3962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86400" y="380988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41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86600" y="380988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343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53080" y="243828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77120" y="2590920"/>
            <a:ext cx="117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934320" y="2438280"/>
            <a:ext cx="7596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81680" y="2590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91520" y="2438280"/>
            <a:ext cx="7596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238880" y="2590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2514600"/>
            <a:ext cx="7596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24280" y="2666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57800" y="251460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05520" y="2666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243828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9000" y="2590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2438280"/>
            <a:ext cx="7596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9880" y="2590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0" y="251460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33720" y="2666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81280" y="266688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809880" y="266688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251460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2666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5105520" y="29714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57800" y="29718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257440" y="27432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52880" y="27432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57800" y="2819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705720" y="28951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0" y="28954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2940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857640" y="26668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46748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743200" y="449532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1295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733920" y="44956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4495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3962520"/>
            <a:ext cx="17524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40384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114440" y="403848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114800" y="403848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114440" y="4038480"/>
            <a:ext cx="2514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114440" y="4038480"/>
            <a:ext cx="297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467480" y="4114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0" y="335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988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56272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0572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8660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6748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90920" y="5562720"/>
            <a:ext cx="304560" cy="304560"/>
          </a:xfrm>
          <a:prstGeom prst="pentagon">
            <a:avLst/>
          </a:prstGeom>
          <a:gradFill rotWithShape="0">
            <a:gsLst>
              <a:gs pos="0">
                <a:srgbClr val="3333cc"/>
              </a:gs>
              <a:gs pos="50000">
                <a:srgbClr val="0000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90920" y="61722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3720" y="5638680"/>
            <a:ext cx="106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 Pro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26960" y="617220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 LW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20200" y="516564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cc0066"/>
                </a:solidFill>
                <a:latin typeface="Arial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5320" y="373392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ff"/>
                </a:solidFill>
                <a:latin typeface="Arial"/>
              </a:rPr>
              <a:t>Ker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4960" y="23353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rządzanie proces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438280" y="1981080"/>
            <a:ext cx="1752840" cy="838440"/>
          </a:xfrm>
          <a:prstGeom prst="ellipse">
            <a:avLst/>
          </a:prstGeom>
          <a:gradFill rotWithShape="0">
            <a:gsLst>
              <a:gs pos="0">
                <a:srgbClr val="660066"/>
              </a:gs>
              <a:gs pos="50000">
                <a:srgbClr val="9933ff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Run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14600" y="3505320"/>
            <a:ext cx="1752480" cy="838080"/>
          </a:xfrm>
          <a:prstGeom prst="ellipse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Runnabl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5029200"/>
            <a:ext cx="1752480" cy="838080"/>
          </a:xfrm>
          <a:prstGeom prst="ellipse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Runn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swap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10080" y="3429000"/>
            <a:ext cx="1752840" cy="838080"/>
          </a:xfrm>
          <a:prstGeom prst="ellipse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Slee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in 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410080" y="5029200"/>
            <a:ext cx="1752840" cy="838080"/>
          </a:xfrm>
          <a:prstGeom prst="ellipse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Slee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swap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05320" y="2819520"/>
            <a:ext cx="0" cy="6858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05320" y="4343400"/>
            <a:ext cx="0" cy="6858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67080" y="3886200"/>
            <a:ext cx="11430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91120" y="2438280"/>
            <a:ext cx="1904760" cy="9907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324480" y="4267080"/>
            <a:ext cx="0" cy="762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410080"/>
            <a:ext cx="11430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2819520"/>
            <a:ext cx="0" cy="68580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4343400"/>
            <a:ext cx="0" cy="68580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89680" y="262404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63080" y="4452840"/>
            <a:ext cx="84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wap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80560" y="353844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ake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96400" y="495288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ake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83440" y="4495680"/>
            <a:ext cx="84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wap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66160" y="3005280"/>
            <a:ext cx="7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eem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17880" y="3005280"/>
            <a:ext cx="10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ssign CP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43000" y="45291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wap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rządzanie priorytet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371600" y="25909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95480" y="25909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91320" y="2362320"/>
            <a:ext cx="609480" cy="3657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43600" y="25146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05720" y="25909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162920" y="25909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3657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9132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43600" y="32004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705720" y="32767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162920" y="32767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24852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43600" y="3809880"/>
            <a:ext cx="304920" cy="3049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05720" y="3886200"/>
            <a:ext cx="152280" cy="1522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3886200"/>
            <a:ext cx="152280" cy="1522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4852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0" y="2666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43600" y="4495680"/>
            <a:ext cx="304920" cy="3049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705720" y="4572000"/>
            <a:ext cx="152280" cy="1522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162920" y="4572000"/>
            <a:ext cx="152280" cy="1522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248520" y="4648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0" y="4648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248520" y="2666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580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943600" y="5029200"/>
            <a:ext cx="30492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05720" y="51055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162920" y="51055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3600" y="5638680"/>
            <a:ext cx="30492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05720" y="57150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162920" y="57150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248520" y="5791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5791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62920" y="1916280"/>
            <a:ext cx="138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Class-spefic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rior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61560" y="2666880"/>
            <a:ext cx="120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Real-ti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ior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38600" y="388620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ior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61920" y="5105520"/>
            <a:ext cx="145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Time-sha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ior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549040" y="181296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chedu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691680" y="1812960"/>
            <a:ext cx="88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R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12560" y="1905120"/>
            <a:ext cx="127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93960" y="1905120"/>
            <a:ext cx="878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Glob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349360" y="249876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Fir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3644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L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0080" y="25146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cc0066"/>
                </a:solidFill>
                <a:latin typeface="Arial"/>
              </a:rPr>
              <a:t>High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6760" y="579132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cc0066"/>
                </a:solidFill>
                <a:latin typeface="Arial"/>
              </a:rPr>
              <a:t>Low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6T15:23:20Z</dcterms:created>
  <dc:creator>K.Z.</dc:creator>
  <dc:description/>
  <dc:language>en-US</dc:language>
  <cp:lastModifiedBy>DSRG</cp:lastModifiedBy>
  <cp:lastPrinted>1998-09-21T07:40:02Z</cp:lastPrinted>
  <dcterms:modified xsi:type="dcterms:W3CDTF">1998-11-23T08:50:38Z</dcterms:modified>
  <cp:revision>51</cp:revision>
  <dc:subject/>
  <dc:title>Bez tytułu slajdu</dc:title>
</cp:coreProperties>
</file>