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747-B286-43F8-BAB6-89891464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378-4606-4EC2-B093-93AF5EA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93C-9FC8-4EBF-AF0C-928760B4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6D3-A5C7-4278-8E1E-3A05922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932-AAF9-49BB-923F-3A5AEA28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7F1-D4AD-4BAB-8F37-5C65C4A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09C-2083-4575-800F-F595EF0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407-1C73-4ED0-AADD-6F4F48C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C97-28F8-4C43-9EEA-8F49ED26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9E9-2F15-461C-864A-346F234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4CA-7E7A-42F0-BD87-8A58558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1B9-66DA-40FF-9859-432CE10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235-7CA2-46EB-8A06-80F2EDDF3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C:\WINDOWS\rundll32.exe amovie.ocx,RunDll /play /close c:\home\bokun\sun\sun.m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M - Wirtualny System Plików Multimedialnych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7320" y="4937040"/>
            <a:ext cx="7642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or BOKUN, Stanisław STRELNIK, Krzysztof ZIELIŃS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edra Informatyk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kademia Górniczo-Hut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4040"/>
            <a:ext cx="746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częcie transmisji wybranego filmu do wybran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y. Aby możliwa była transmisja, film musi być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ieszczony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enie nowego pliku MPEG do WSPM. Źródł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mienia MPEG podawane jako paramert op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ądanie przygotowania filmu do odtwarzania na określony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ń/godzin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odsyłacza do danego 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odsyłacza i ewentualne fizyczne usunięci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d, mkdi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eracje na drzewie katalog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lock, unloc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blokowanie filmu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47760"/>
            <a:ext cx="7673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 realizację operacji odpowiedzialny jest moduł managera żą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zapewnia optymalną dystrybucję dokumentów multimedialnych w przypadku występowania wielu video-serwe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uje listę żadań, starając się zapewnić realizację wszystkich zleconych za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nieje możliwość administracyjnej zmiany priorytetu poszczególnych film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wyboru funkcji prioryte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lini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funkcja priorytetu arcus ta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skok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2133720"/>
          <a:ext cx="390528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39052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005200"/>
            <a:ext cx="693432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 przeszedł fazę implementacji. Wykonane zostały pierwsze testy, jednak niezbędne jest dokonanie obszernych testów celem ustalenia optymalnych parametrów pracy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stały zaimplementowane pierwsze aplikacje w języku Java wykorzystające Java MediaFramework oraz WS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ie technologii CORBA umożliwiło integrację wielu odmiennych środowisk programowania oraz protokołów sterowania urządzeniami. jak również ułatwiło realizację projektu przez niezależne gru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wają prace nad implementacją mechanizmów zwiększających bezpieczeństwo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5640" y="2361960"/>
            <a:ext cx="4724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latforma sprzętow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refer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19600"/>
            <a:ext cx="7073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jednolitej z punktu widzenia użytkownika przestrzeni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zarządzanie dokumentami przechowywanymi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dużych ilości dokumentów multimedialnych - kilkaset pełnometrażowych fil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alowalność oraz możliwość adaptacji systemu do nowych rozwiązań sprzęt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interfejs umożliwiający tworzenie aplikacji-klientów w wizualnych środowiskach programowania, takich jak n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ymantec Visual C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160" y="1676520"/>
            <a:ext cx="351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un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c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936800" cy="148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85800" y="4495320"/>
            <a:ext cx="7086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ły programowe wykorzystywane w proje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Content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wprowadzanie plików MPEG do multimedialnego systemu plików 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Stream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odtwarzanie przechowywanych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0932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dware, system operacyjny, system plików specjalizowany do zastosowań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cierz dyskowa o dużej pojemności - 50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plików w standardzie MPEG-1 oraz 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terfejsy Ethernet 100 Mb, ATM, analogowy - telewizja kabl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4648320"/>
            <a:ext cx="636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676520"/>
            <a:ext cx="51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bot taśmowy ACL 26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l2640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38140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9000" y="2361600"/>
            <a:ext cx="43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ałkowita 2.64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ustowość biblioteki - 13.5 GB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 niezależne napędy taś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64 taśm o pojemności 10 GB każ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ędkość transmisji pojedync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czytnika- 1.2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 kasety - Compac Tap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952520"/>
            <a:ext cx="388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y dostępu do bibliot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 u="sng">
                <a:solidFill>
                  <a:srgbClr val="00ff00"/>
                </a:solidFill>
                <a:uFillTx/>
                <a:latin typeface="Times New Roman"/>
              </a:rPr>
              <a:t>File Transfer Protocol (F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Network File System (N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160" y="2286000"/>
            <a:ext cx="266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Point 6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57240"/>
            <a:ext cx="792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zętowy koder MPEG-1wyposażony w interfej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resja w czasie rzeczywistym ze stałym opóźnieniem rzędu 1 s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iwane rozdzielczości: 352x288 (SIF) lub 176x144 (QS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42040" y="5105160"/>
            <a:ext cx="5220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 sterowania urządzen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pen Media Device Control Interface (OMD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toczka obiektowa CORBA na bazie OMD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676520"/>
          <a:ext cx="3962520" cy="18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3962520" cy="18032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76520"/>
            <a:ext cx="6485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nfiguracja sieci komputerowej wykorzystywanej do testów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2971800"/>
          <a:ext cx="651204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971800"/>
                    <a:ext cx="65120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1981080"/>
          <a:ext cx="590400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9040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Architektura głównego serwer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19320" y="2362320"/>
          <a:ext cx="6659280" cy="29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659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AGH</dc:creator>
  <dc:description/>
  <dc:language>en-US</dc:language>
  <cp:lastModifiedBy>K.Z.</cp:lastModifiedBy>
  <cp:lastPrinted>1998-03-16T08:12:04Z</cp:lastPrinted>
  <dcterms:modified xsi:type="dcterms:W3CDTF">1998-09-18T18:33:17Z</dcterms:modified>
  <cp:revision>81</cp:revision>
  <dc:subject/>
  <dc:title>Narzêdzie do testowania</dc:title>
</cp:coreProperties>
</file>