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4.png" ContentType="image/png"/>
  <Override PartName="/ppt/media/image10.png" ContentType="image/png"/>
  <Override PartName="/ppt/media/image14.wmf" ContentType="image/x-wmf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6D74-E516-42DC-AD44-0E8638E59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B642-47CD-4FC3-AF3C-794A9592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D934-568C-4E61-B95C-D31AA2656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6234-3B5F-4C89-A261-F81417E32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7039-B8CB-4ABB-9C3E-5CACB61A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1FC8-F807-4893-8A5F-1024566A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7882-965F-470B-9D98-F3D9DC84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4340-009E-4386-A16D-10EE32A0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EA9B-BDC9-4C67-813C-2E27D26C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BF13-455F-4884-9F2A-EB0E9A73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F54F-FFC7-46AC-8CAB-EFD17264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B838-2D8E-4174-B79D-FC983959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046A-1B08-4533-BB46-42453030B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2.png"/><Relationship Id="rId11" Type="http://schemas.openxmlformats.org/officeDocument/2006/relationships/image" Target="../media/image15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C:\WINDOWS\rundll32.exe amovie.ocx,RunDll /play /close c:\home\kz\sun.mpg" TargetMode="Externa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43000" y="2590920"/>
            <a:ext cx="70866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1e1e7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Nowoczesne Architektury Oprogramowani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cc"/>
                  </a:gs>
                  <a:gs pos="100000">
                    <a:srgbClr val="1e1e7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1e1e7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Rozproszonych Systemów Komputerowych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cc"/>
                  </a:gs>
                  <a:gs pos="100000">
                    <a:srgbClr val="1e1e7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581280" y="4648320"/>
            <a:ext cx="2057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rzysztof Zieliński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atedra Informatyki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kademia Górniczo-Hutnicza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85800" y="45720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blemy otwa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447920" y="2438280"/>
            <a:ext cx="380880" cy="3812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33720" y="2438280"/>
            <a:ext cx="576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66"/>
                </a:solidFill>
                <a:latin typeface="Arial"/>
              </a:rPr>
              <a:t>Skalowalność</a:t>
            </a: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 obiektowych rozproszo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nych środowisk tworzenia aplikacji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47920" y="5105520"/>
            <a:ext cx="380880" cy="3808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447920" y="3429000"/>
            <a:ext cx="380880" cy="3808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09680" y="41911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Powiązanie stanó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obiektów sieciowy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z ich reprezentacją w bazie da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33720" y="33526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66"/>
                </a:solidFill>
                <a:latin typeface="Arial"/>
              </a:rPr>
              <a:t>Trwałość</a:t>
            </a: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 obiektów  sieciowych - Persysteność - Czas ży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47920" y="4267080"/>
            <a:ext cx="380880" cy="3812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31920" y="5105520"/>
            <a:ext cx="480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Mobilność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obiektów sieciow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blemy otwa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902600" y="2438280"/>
            <a:ext cx="602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66"/>
                </a:solidFill>
                <a:latin typeface="Arial"/>
              </a:rPr>
              <a:t>Tolerancja uszkodzeń</a:t>
            </a: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 w sieci obiektów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resynchronizacja sta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2514600"/>
            <a:ext cx="380880" cy="380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4876920"/>
            <a:ext cx="380880" cy="3808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83240" y="4876920"/>
            <a:ext cx="30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otyfikacja zdarze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81080" y="3657600"/>
            <a:ext cx="553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zekazywanie  obiektów sieciow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zez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wartoś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95280" y="3657600"/>
            <a:ext cx="381240" cy="3808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752480" y="2895480"/>
            <a:ext cx="152640" cy="38124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2819520"/>
            <a:ext cx="152280" cy="3808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629400" y="2895480"/>
            <a:ext cx="152280" cy="38124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772400" y="2895480"/>
            <a:ext cx="152280" cy="38124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19720" y="3962520"/>
            <a:ext cx="304560" cy="4572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1752480"/>
            <a:ext cx="914400" cy="914400"/>
          </a:xfrm>
          <a:prstGeom prst="irregularSeal1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stemy rozpowszechnia inform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828080" y="5562720"/>
            <a:ext cx="543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zorzec Obserwator /Obserwow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3200400"/>
            <a:ext cx="7696440" cy="7621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cc99ff"/>
              </a:gs>
              <a:gs pos="100000">
                <a:srgbClr val="006699"/>
              </a:gs>
            </a:gsLst>
            <a:lin ang="5400000"/>
          </a:gra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371600" y="2438280"/>
            <a:ext cx="91440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Obse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w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38480" y="4343400"/>
            <a:ext cx="1067040" cy="8380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91520" y="2438280"/>
            <a:ext cx="91440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Obse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w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248520" y="2438280"/>
            <a:ext cx="91440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Obse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w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05520" y="2438280"/>
            <a:ext cx="91440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Obse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w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48120" y="25909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352680" y="2590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2590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02200" y="205740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t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92400" y="4495680"/>
            <a:ext cx="2797560" cy="64260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y Monitorow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ktywne Bazy Dany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195640" y="40752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Zdarzen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68" idx="2"/>
            <a:endCxn id="269" idx="0"/>
          </p:cNvCxnSpPr>
          <p:nvPr/>
        </p:nvCxnSpPr>
        <p:spPr>
          <a:xfrm flipH="1" rot="16200000">
            <a:off x="2476440" y="2247480"/>
            <a:ext cx="1448640" cy="2743920"/>
          </a:xfrm>
          <a:prstGeom prst="bentConnector3">
            <a:avLst>
              <a:gd name="adj1" fmla="val 49987"/>
            </a:avLst>
          </a:prstGeom>
          <a:ln w="38160">
            <a:solidFill>
              <a:srgbClr val="ffff00"/>
            </a:solidFill>
            <a:prstDash val="sysDot"/>
            <a:miter/>
          </a:ln>
        </p:spPr>
      </p:cxnSp>
      <p:cxnSp>
        <p:nvCxnSpPr>
          <p:cNvPr id="280" name=""/>
          <p:cNvCxnSpPr>
            <a:stCxn id="272" idx="2"/>
            <a:endCxn id="269" idx="0"/>
          </p:cNvCxnSpPr>
          <p:nvPr/>
        </p:nvCxnSpPr>
        <p:spPr>
          <a:xfrm rot="5400000">
            <a:off x="4342680" y="3124080"/>
            <a:ext cx="1448640" cy="991440"/>
          </a:xfrm>
          <a:prstGeom prst="bentConnector3">
            <a:avLst>
              <a:gd name="adj1" fmla="val 49987"/>
            </a:avLst>
          </a:prstGeom>
          <a:ln w="38160">
            <a:solidFill>
              <a:srgbClr val="ffff00"/>
            </a:solidFill>
            <a:prstDash val="sysDot"/>
            <a:miter/>
          </a:ln>
        </p:spPr>
      </p:cxnSp>
      <p:cxnSp>
        <p:nvCxnSpPr>
          <p:cNvPr id="281" name=""/>
          <p:cNvCxnSpPr>
            <a:stCxn id="271" idx="2"/>
            <a:endCxn id="269" idx="0"/>
          </p:cNvCxnSpPr>
          <p:nvPr/>
        </p:nvCxnSpPr>
        <p:spPr>
          <a:xfrm rot="5400000">
            <a:off x="4914000" y="2552400"/>
            <a:ext cx="1448640" cy="2134440"/>
          </a:xfrm>
          <a:prstGeom prst="bentConnector3">
            <a:avLst>
              <a:gd name="adj1" fmla="val 49987"/>
            </a:avLst>
          </a:prstGeom>
          <a:ln w="38160">
            <a:solidFill>
              <a:srgbClr val="ffff00"/>
            </a:solidFill>
            <a:prstDash val="sysDot"/>
            <a:miter/>
          </a:ln>
        </p:spPr>
      </p:cxnSp>
      <p:cxnSp>
        <p:nvCxnSpPr>
          <p:cNvPr id="282" name=""/>
          <p:cNvCxnSpPr>
            <a:stCxn id="270" idx="2"/>
            <a:endCxn id="269" idx="0"/>
          </p:cNvCxnSpPr>
          <p:nvPr/>
        </p:nvCxnSpPr>
        <p:spPr>
          <a:xfrm rot="5400000">
            <a:off x="5485680" y="1981080"/>
            <a:ext cx="1448640" cy="3277440"/>
          </a:xfrm>
          <a:prstGeom prst="bentConnector3">
            <a:avLst>
              <a:gd name="adj1" fmla="val 49987"/>
            </a:avLst>
          </a:prstGeom>
          <a:ln w="38160">
            <a:solidFill>
              <a:srgbClr val="ffff00"/>
            </a:solidFill>
            <a:prstDash val="sysDot"/>
            <a:miter/>
          </a:ln>
        </p:spPr>
      </p:cxnSp>
      <p:cxnSp>
        <p:nvCxnSpPr>
          <p:cNvPr id="283" name=""/>
          <p:cNvCxnSpPr>
            <a:stCxn id="269" idx="0"/>
            <a:endCxn id="268" idx="2"/>
          </p:cNvCxnSpPr>
          <p:nvPr/>
        </p:nvCxnSpPr>
        <p:spPr>
          <a:xfrm flipV="1" rot="16200000">
            <a:off x="2476080" y="2247120"/>
            <a:ext cx="1448640" cy="2743920"/>
          </a:xfrm>
          <a:prstGeom prst="bentConnector3">
            <a:avLst>
              <a:gd name="adj1" fmla="val 49987"/>
            </a:avLst>
          </a:prstGeom>
          <a:ln w="76320">
            <a:solidFill>
              <a:srgbClr val="ff0066"/>
            </a:solidFill>
            <a:miter/>
          </a:ln>
        </p:spPr>
      </p:cxnSp>
      <p:cxnSp>
        <p:nvCxnSpPr>
          <p:cNvPr id="284" name=""/>
          <p:cNvCxnSpPr>
            <a:stCxn id="269" idx="0"/>
            <a:endCxn id="272" idx="2"/>
          </p:cNvCxnSpPr>
          <p:nvPr/>
        </p:nvCxnSpPr>
        <p:spPr>
          <a:xfrm flipH="1" flipV="1" rot="5400000">
            <a:off x="4343040" y="3123720"/>
            <a:ext cx="1448640" cy="991440"/>
          </a:xfrm>
          <a:prstGeom prst="bentConnector3">
            <a:avLst>
              <a:gd name="adj1" fmla="val 49987"/>
            </a:avLst>
          </a:prstGeom>
          <a:ln w="76320">
            <a:solidFill>
              <a:srgbClr val="ff0066"/>
            </a:solidFill>
            <a:miter/>
          </a:ln>
        </p:spPr>
      </p:cxnSp>
      <p:cxnSp>
        <p:nvCxnSpPr>
          <p:cNvPr id="285" name=""/>
          <p:cNvCxnSpPr>
            <a:stCxn id="269" idx="0"/>
            <a:endCxn id="271" idx="2"/>
          </p:cNvCxnSpPr>
          <p:nvPr/>
        </p:nvCxnSpPr>
        <p:spPr>
          <a:xfrm flipH="1" flipV="1" rot="5400000">
            <a:off x="4914360" y="2552040"/>
            <a:ext cx="1448640" cy="2134440"/>
          </a:xfrm>
          <a:prstGeom prst="bentConnector3">
            <a:avLst>
              <a:gd name="adj1" fmla="val 49987"/>
            </a:avLst>
          </a:prstGeom>
          <a:ln w="76320">
            <a:solidFill>
              <a:srgbClr val="ff0066"/>
            </a:solidFill>
            <a:miter/>
          </a:ln>
        </p:spPr>
      </p:cxnSp>
      <p:cxnSp>
        <p:nvCxnSpPr>
          <p:cNvPr id="286" name=""/>
          <p:cNvCxnSpPr>
            <a:stCxn id="269" idx="0"/>
            <a:endCxn id="270" idx="2"/>
          </p:cNvCxnSpPr>
          <p:nvPr/>
        </p:nvCxnSpPr>
        <p:spPr>
          <a:xfrm flipH="1" flipV="1" rot="5400000">
            <a:off x="5486040" y="1980720"/>
            <a:ext cx="1448640" cy="3277440"/>
          </a:xfrm>
          <a:prstGeom prst="bentConnector3">
            <a:avLst>
              <a:gd name="adj1" fmla="val 49987"/>
            </a:avLst>
          </a:prstGeom>
          <a:ln w="76320">
            <a:solidFill>
              <a:srgbClr val="ff0066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752480" y="2819520"/>
            <a:ext cx="152640" cy="3808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91120" y="3657600"/>
            <a:ext cx="152280" cy="3808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09880" y="4114800"/>
            <a:ext cx="167652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172200" y="5029200"/>
            <a:ext cx="1981080" cy="121932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RBA a Obiektowe Bazy Da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838080" y="3200400"/>
            <a:ext cx="7696440" cy="5335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cc99ff"/>
              </a:gs>
              <a:gs pos="100000">
                <a:srgbClr val="006699"/>
              </a:gs>
            </a:gsLst>
            <a:lin ang="5400000"/>
          </a:gra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71600" y="2438280"/>
            <a:ext cx="91440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COR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62520" y="4419720"/>
            <a:ext cx="609480" cy="4572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724280" y="4419720"/>
            <a:ext cx="609840" cy="4572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09880" y="5105520"/>
            <a:ext cx="167652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ODB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6200" y="5638680"/>
            <a:ext cx="1676520" cy="60984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ODB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00800" y="5410080"/>
            <a:ext cx="380880" cy="304920"/>
          </a:xfrm>
          <a:prstGeom prst="ellipse">
            <a:avLst/>
          </a:prstGeom>
          <a:gradFill rotWithShape="0">
            <a:gsLst>
              <a:gs pos="0">
                <a:srgbClr val="00808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10280" y="5410080"/>
            <a:ext cx="381240" cy="304920"/>
          </a:xfrm>
          <a:prstGeom prst="ellipse">
            <a:avLst/>
          </a:prstGeom>
          <a:gradFill rotWithShape="0">
            <a:gsLst>
              <a:gs pos="0">
                <a:srgbClr val="00808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543800" y="5410080"/>
            <a:ext cx="380880" cy="304920"/>
          </a:xfrm>
          <a:prstGeom prst="ellipse">
            <a:avLst/>
          </a:prstGeom>
          <a:gradFill rotWithShape="0">
            <a:gsLst>
              <a:gs pos="0">
                <a:srgbClr val="00808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99600" y="4419720"/>
            <a:ext cx="23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cc00"/>
                </a:solidFill>
                <a:latin typeface="Arial"/>
              </a:rPr>
              <a:t>CORBA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28800" y="2895480"/>
            <a:ext cx="0" cy="60984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28800" y="3505320"/>
            <a:ext cx="24382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267080" y="3505320"/>
            <a:ext cx="0" cy="9144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257800" y="4724280"/>
            <a:ext cx="1828800" cy="685800"/>
          </a:xfrm>
          <a:prstGeom prst="line">
            <a:avLst/>
          </a:prstGeom>
          <a:ln cap="rnd" w="9360">
            <a:solidFill>
              <a:srgbClr val="ff0066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419720" y="4800600"/>
            <a:ext cx="2057400" cy="685800"/>
          </a:xfrm>
          <a:prstGeom prst="line">
            <a:avLst/>
          </a:prstGeom>
          <a:ln cap="rnd" w="9360">
            <a:solidFill>
              <a:srgbClr val="ff0066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15000" y="5867280"/>
            <a:ext cx="4572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48320" y="5486400"/>
            <a:ext cx="0" cy="1522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545440" y="1839960"/>
            <a:ext cx="261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Transmisja Oper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Transmisja Da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78920" y="32767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929200" y="437976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66"/>
                </a:solidFill>
                <a:latin typeface="Arial"/>
              </a:rPr>
              <a:t>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990720" y="1905120"/>
            <a:ext cx="716256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toda badawc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1447920" y="1981080"/>
            <a:ext cx="64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Weryfikacja rozwiązań na drod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implementacji eksperymentalnych aplik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6200" y="3124080"/>
            <a:ext cx="29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ystemy lokaliz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920" y="4495680"/>
            <a:ext cx="36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ystemy monitorow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5280" y="5257800"/>
            <a:ext cx="48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Systemy wrażliwe na lokalizac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mobile multi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3809880"/>
            <a:ext cx="49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Sieciowe systemy multimedial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stemy wrażliwe na lokalizację  (W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26" name="spirit" descr=""/>
          <p:cNvPicPr/>
          <p:nvPr/>
        </p:nvPicPr>
        <p:blipFill>
          <a:blip r:embed="rId2"/>
          <a:stretch/>
        </p:blipFill>
        <p:spPr>
          <a:xfrm>
            <a:off x="1676520" y="1828800"/>
            <a:ext cx="6019560" cy="38336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2511720" y="5867280"/>
            <a:ext cx="43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irtualny świat  a lokalizac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stem B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31" name="ic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5410080" cy="3886200"/>
          </a:xfrm>
          <a:prstGeom prst="rect">
            <a:avLst/>
          </a:prstGeom>
          <a:ln w="0">
            <a:noFill/>
          </a:ln>
        </p:spPr>
      </p:pic>
      <p:pic>
        <p:nvPicPr>
          <p:cNvPr id="332" name="theory" descr=""/>
          <p:cNvPicPr/>
          <p:nvPr/>
        </p:nvPicPr>
        <p:blipFill>
          <a:blip r:embed="rId3"/>
          <a:stretch/>
        </p:blipFill>
        <p:spPr>
          <a:xfrm>
            <a:off x="6095880" y="2743200"/>
            <a:ext cx="27147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ktywna  plakietka  systemu BA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36" name="nb" descr=""/>
          <p:cNvPicPr/>
          <p:nvPr/>
        </p:nvPicPr>
        <p:blipFill>
          <a:blip r:embed="rId2"/>
          <a:stretch/>
        </p:blipFill>
        <p:spPr>
          <a:xfrm>
            <a:off x="2514600" y="2514600"/>
            <a:ext cx="380988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kietki Systemu 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40" name="badges" descr=""/>
          <p:cNvPicPr/>
          <p:nvPr/>
        </p:nvPicPr>
        <p:blipFill>
          <a:blip r:embed="rId2"/>
          <a:stretch/>
        </p:blipFill>
        <p:spPr>
          <a:xfrm>
            <a:off x="1219320" y="2057400"/>
            <a:ext cx="655308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rchitektura systemu W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44" name="architecture" descr=""/>
          <p:cNvPicPr/>
          <p:nvPr/>
        </p:nvPicPr>
        <p:blipFill>
          <a:blip r:embed="rId2"/>
          <a:stretch/>
        </p:blipFill>
        <p:spPr>
          <a:xfrm>
            <a:off x="1447920" y="1981080"/>
            <a:ext cx="6269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kres wykła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3880" y="2590920"/>
            <a:ext cx="381240" cy="380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0880" y="2590920"/>
            <a:ext cx="517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Kierunki rozwoju oprogramow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ystemów rozproszo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4800600"/>
            <a:ext cx="381240" cy="3808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3733920"/>
            <a:ext cx="381240" cy="3808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37920" y="3657600"/>
            <a:ext cx="529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łasności  wybranych architektur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oblemy badawc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40440" y="4724280"/>
            <a:ext cx="50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zykładowe obszary zastosowa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5410080" y="2895480"/>
            <a:ext cx="3276720" cy="19814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33520" y="2971800"/>
            <a:ext cx="3276360" cy="19810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219320" y="3429000"/>
            <a:ext cx="838080" cy="4572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00"/>
                </a:solidFill>
                <a:latin typeface="Arial"/>
              </a:rPr>
              <a:t>MediaCt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09880" y="2514600"/>
            <a:ext cx="1371600" cy="6094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00"/>
                </a:solidFill>
                <a:latin typeface="Arial"/>
              </a:rPr>
              <a:t>StreamCtr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362320" y="3429000"/>
            <a:ext cx="838080" cy="457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00"/>
                </a:solidFill>
                <a:latin typeface="Arial"/>
              </a:rPr>
              <a:t>VD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66680" y="4191120"/>
            <a:ext cx="1067040" cy="304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0066"/>
                </a:solidFill>
                <a:latin typeface="Arial"/>
              </a:rPr>
              <a:t>MM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2209680" y="4952880"/>
          <a:ext cx="2837160" cy="12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4952880"/>
                    <a:ext cx="2837160" cy="12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4114800" y="4876920"/>
          <a:ext cx="2825640" cy="152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4800" y="4876920"/>
                    <a:ext cx="282564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609480" y="5562720"/>
            <a:ext cx="5334120" cy="761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86400" y="5867280"/>
            <a:ext cx="2209680" cy="381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352680" y="5334120"/>
            <a:ext cx="2590920" cy="228600"/>
          </a:xfrm>
          <a:prstGeom prst="leftRightArrow">
            <a:avLst>
              <a:gd name="adj1" fmla="val 50000"/>
              <a:gd name="adj2" fmla="val 22562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362320" y="4114800"/>
            <a:ext cx="990360" cy="4572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00"/>
                </a:solidFill>
                <a:latin typeface="Arial"/>
              </a:rPr>
              <a:t>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00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943600" y="3429000"/>
            <a:ext cx="838080" cy="45720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00"/>
                </a:solidFill>
                <a:latin typeface="Arial"/>
              </a:rPr>
              <a:t>VD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43600" y="4114800"/>
            <a:ext cx="990720" cy="45720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00"/>
                </a:solidFill>
                <a:latin typeface="Arial"/>
              </a:rPr>
              <a:t>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00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086600" y="3505320"/>
            <a:ext cx="838080" cy="45720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00"/>
                </a:solidFill>
                <a:latin typeface="Arial"/>
              </a:rPr>
              <a:t>MediaCt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086600" y="4267080"/>
            <a:ext cx="1066680" cy="304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0066"/>
                </a:solidFill>
                <a:latin typeface="Arial"/>
              </a:rPr>
              <a:t>MM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1981080" y="3276720"/>
            <a:ext cx="457200" cy="7617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781680" y="3429000"/>
            <a:ext cx="533520" cy="7621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2438280" y="2895120"/>
            <a:ext cx="1371600" cy="3812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1480" y="2895480"/>
            <a:ext cx="160020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286000" y="3809520"/>
            <a:ext cx="228600" cy="2286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86000" y="4191120"/>
            <a:ext cx="152280" cy="759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705720" y="3809880"/>
            <a:ext cx="457200" cy="3812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6934320" y="4343400"/>
            <a:ext cx="152280" cy="763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0040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352680" y="434340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600200" y="3886200"/>
            <a:ext cx="0" cy="152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620120" y="3962520"/>
            <a:ext cx="0" cy="152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OMG A/V Streams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tforma sprzętowa W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2133720" y="2971800"/>
            <a:ext cx="5333760" cy="160020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acl2640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2438280" cy="3886200"/>
          </a:xfrm>
          <a:prstGeom prst="rect">
            <a:avLst/>
          </a:prstGeom>
          <a:ln w="0">
            <a:noFill/>
          </a:ln>
        </p:spPr>
      </p:pic>
      <p:pic>
        <p:nvPicPr>
          <p:cNvPr id="383" name="smc" descr=""/>
          <p:cNvPicPr/>
          <p:nvPr/>
        </p:nvPicPr>
        <p:blipFill>
          <a:blip r:embed="rId3"/>
          <a:stretch/>
        </p:blipFill>
        <p:spPr>
          <a:xfrm>
            <a:off x="6324480" y="2743200"/>
            <a:ext cx="2057400" cy="2133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84" name=""/>
          <p:cNvSpPr/>
          <p:nvPr/>
        </p:nvSpPr>
        <p:spPr>
          <a:xfrm>
            <a:off x="3202200" y="198108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64 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377480" y="20937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50 G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28600" y="5866920"/>
            <a:ext cx="3276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obot taśm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CL 26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783480" y="510552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SUN 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c0c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chitektura systemu  W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1905120" y="3581280"/>
            <a:ext cx="5486400" cy="205740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acl2640" descr=""/>
          <p:cNvPicPr/>
          <p:nvPr/>
        </p:nvPicPr>
        <p:blipFill>
          <a:blip r:embed="rId2"/>
          <a:stretch/>
        </p:blipFill>
        <p:spPr>
          <a:xfrm>
            <a:off x="1295280" y="3809880"/>
            <a:ext cx="838440" cy="1295640"/>
          </a:xfrm>
          <a:prstGeom prst="rect">
            <a:avLst/>
          </a:prstGeom>
          <a:ln w="0">
            <a:noFill/>
          </a:ln>
        </p:spPr>
      </p:pic>
      <p:pic>
        <p:nvPicPr>
          <p:cNvPr id="393" name="smc" descr=""/>
          <p:cNvPicPr/>
          <p:nvPr/>
        </p:nvPicPr>
        <p:blipFill>
          <a:blip r:embed="rId3"/>
          <a:stretch/>
        </p:blipFill>
        <p:spPr>
          <a:xfrm>
            <a:off x="7238880" y="4267080"/>
            <a:ext cx="685800" cy="7621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94" name=""/>
          <p:cNvSpPr/>
          <p:nvPr/>
        </p:nvSpPr>
        <p:spPr>
          <a:xfrm>
            <a:off x="6629400" y="4800600"/>
            <a:ext cx="762120" cy="6858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81080" y="4724280"/>
            <a:ext cx="762120" cy="6858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267080" y="3429000"/>
            <a:ext cx="762120" cy="6858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209680" y="4343400"/>
            <a:ext cx="4876920" cy="3049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cc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09680" y="2438280"/>
            <a:ext cx="9144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114800" y="2438280"/>
            <a:ext cx="9144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943600" y="2438280"/>
            <a:ext cx="9144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495680" y="2895480"/>
            <a:ext cx="228600" cy="609840"/>
          </a:xfrm>
          <a:prstGeom prst="upDownArrow">
            <a:avLst>
              <a:gd name="adj1" fmla="val 50000"/>
              <a:gd name="adj2" fmla="val 53107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 rot="3532800">
            <a:off x="5601600" y="2551680"/>
            <a:ext cx="188640" cy="1486080"/>
          </a:xfrm>
          <a:prstGeom prst="upDownArrow">
            <a:avLst>
              <a:gd name="adj1" fmla="val 50000"/>
              <a:gd name="adj2" fmla="val 156828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 rot="17667000">
            <a:off x="3331080" y="2459160"/>
            <a:ext cx="195120" cy="1676160"/>
          </a:xfrm>
          <a:prstGeom prst="upDownArrow">
            <a:avLst>
              <a:gd name="adj1" fmla="val 50000"/>
              <a:gd name="adj2" fmla="val 171013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209680" y="4495680"/>
            <a:ext cx="228600" cy="381240"/>
          </a:xfrm>
          <a:prstGeom prst="upDownArrow">
            <a:avLst>
              <a:gd name="adj1" fmla="val 50000"/>
              <a:gd name="adj2" fmla="val 33200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0" y="4495680"/>
            <a:ext cx="228600" cy="381240"/>
          </a:xfrm>
          <a:prstGeom prst="upDownArrow">
            <a:avLst>
              <a:gd name="adj1" fmla="val 50000"/>
              <a:gd name="adj2" fmla="val 33200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4038480"/>
            <a:ext cx="228600" cy="381240"/>
          </a:xfrm>
          <a:prstGeom prst="upDownArrow">
            <a:avLst>
              <a:gd name="adj1" fmla="val 50000"/>
              <a:gd name="adj2" fmla="val 33200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276720" y="49528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267800" y="426708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 I O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WFS interface użytkown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412" name="vfs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33920" y="1981080"/>
            <a:ext cx="464796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 rot="2326800">
            <a:off x="3428640" y="4114440"/>
            <a:ext cx="18108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38480" y="2666880"/>
            <a:ext cx="15264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400800" y="3276720"/>
            <a:ext cx="609480" cy="152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438280" y="3429000"/>
            <a:ext cx="533520" cy="152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18576600">
            <a:off x="5936400" y="3816720"/>
            <a:ext cx="168480" cy="1068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Mobilne multi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3809880" y="2209680"/>
            <a:ext cx="60984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6200" y="2286000"/>
            <a:ext cx="45720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19920" y="4648320"/>
            <a:ext cx="60948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95880" y="4724280"/>
            <a:ext cx="45720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743200" y="4419720"/>
            <a:ext cx="60948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19520" y="4495680"/>
            <a:ext cx="45720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10280" y="3124080"/>
            <a:ext cx="60984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086600" y="3200400"/>
            <a:ext cx="45720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81280" y="2819520"/>
            <a:ext cx="1676520" cy="1143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895480" y="2971800"/>
            <a:ext cx="1676520" cy="1143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429000" y="3200400"/>
            <a:ext cx="1676520" cy="1143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191120" y="2819520"/>
            <a:ext cx="1676160" cy="1143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191120" y="3276720"/>
            <a:ext cx="1676160" cy="1143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76920" y="3048120"/>
            <a:ext cx="1676160" cy="1143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05120" y="3276720"/>
            <a:ext cx="685800" cy="457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ffffff"/>
              </a:gs>
              <a:gs pos="100000">
                <a:srgbClr val="0033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248520" y="5181480"/>
            <a:ext cx="152280" cy="152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324480" y="5334120"/>
            <a:ext cx="0" cy="3045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6095520" y="5638680"/>
            <a:ext cx="228600" cy="3812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324480" y="5638680"/>
            <a:ext cx="152640" cy="3812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248520" y="5410080"/>
            <a:ext cx="1522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6095880" y="5410080"/>
            <a:ext cx="152640" cy="2286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400800" y="5410080"/>
            <a:ext cx="152280" cy="1526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3" name=""/>
          <p:cNvCxnSpPr>
            <a:stCxn id="435" idx="3"/>
            <a:endCxn id="425" idx="3"/>
          </p:cNvCxnSpPr>
          <p:nvPr/>
        </p:nvCxnSpPr>
        <p:spPr>
          <a:xfrm>
            <a:off x="2590920" y="3504960"/>
            <a:ext cx="762480" cy="1143720"/>
          </a:xfrm>
          <a:prstGeom prst="curvedConnector5">
            <a:avLst>
              <a:gd name="adj1" fmla="val 129995"/>
              <a:gd name="adj2" fmla="val 50000"/>
              <a:gd name="adj3" fmla="val 129995"/>
            </a:avLst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35" idx="3"/>
            <a:endCxn id="423" idx="0"/>
          </p:cNvCxnSpPr>
          <p:nvPr/>
        </p:nvCxnSpPr>
        <p:spPr>
          <a:xfrm>
            <a:off x="2590560" y="3504960"/>
            <a:ext cx="3734280" cy="1143720"/>
          </a:xfrm>
          <a:prstGeom prst="curvedConnector2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445" name=""/>
          <p:cNvCxnSpPr>
            <a:stCxn id="435" idx="3"/>
            <a:endCxn id="421" idx="2"/>
          </p:cNvCxnSpPr>
          <p:nvPr/>
        </p:nvCxnSpPr>
        <p:spPr>
          <a:xfrm flipV="1">
            <a:off x="2590560" y="2666160"/>
            <a:ext cx="1524600" cy="839160"/>
          </a:xfrm>
          <a:prstGeom prst="curvedConnector2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446" name=""/>
          <p:cNvSpPr/>
          <p:nvPr/>
        </p:nvSpPr>
        <p:spPr>
          <a:xfrm flipV="1">
            <a:off x="2743200" y="3352680"/>
            <a:ext cx="4267080" cy="152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971800" y="457200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248520" y="480060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162920" y="327672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038480" y="236232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429000" y="4800600"/>
            <a:ext cx="152280" cy="15228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505320" y="4952880"/>
            <a:ext cx="0" cy="3049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3276360" y="5257800"/>
            <a:ext cx="228600" cy="3808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05320" y="5257800"/>
            <a:ext cx="152280" cy="3808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29000" y="5029200"/>
            <a:ext cx="1522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3276360" y="5029200"/>
            <a:ext cx="152280" cy="2286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81280" y="5029200"/>
            <a:ext cx="152640" cy="152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391520" y="3657600"/>
            <a:ext cx="152280" cy="15228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467480" y="3809880"/>
            <a:ext cx="0" cy="3049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7238520" y="4114800"/>
            <a:ext cx="228600" cy="3808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467480" y="4114800"/>
            <a:ext cx="152640" cy="3808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391520" y="3886200"/>
            <a:ext cx="1522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7238880" y="3886200"/>
            <a:ext cx="152640" cy="2286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543800" y="3886200"/>
            <a:ext cx="152280" cy="152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648320" y="1981080"/>
            <a:ext cx="152280" cy="152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724280" y="2133720"/>
            <a:ext cx="0" cy="3045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4495320" y="2438280"/>
            <a:ext cx="228600" cy="3812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724280" y="2438280"/>
            <a:ext cx="152640" cy="3812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648320" y="2209680"/>
            <a:ext cx="1522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4495680" y="2209680"/>
            <a:ext cx="152640" cy="2286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800600" y="2209680"/>
            <a:ext cx="152280" cy="1526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35920" y="376704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0066"/>
                </a:solidFill>
                <a:latin typeface="Arial"/>
              </a:rPr>
              <a:t>Video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572000" y="28954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SIE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752480" y="5791320"/>
            <a:ext cx="218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66"/>
                </a:solidFill>
                <a:latin typeface="Arial"/>
              </a:rPr>
              <a:t>Video follow  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33040" y="5029200"/>
            <a:ext cx="2015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cc"/>
                </a:solidFill>
                <a:latin typeface="Arial"/>
              </a:rPr>
              <a:t>Powiązan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cc"/>
                </a:solidFill>
                <a:latin typeface="Arial"/>
              </a:rPr>
              <a:t>Sieciowych 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cc"/>
                </a:solidFill>
                <a:latin typeface="Arial"/>
              </a:rPr>
              <a:t>Systemów Lokalizacj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143000" y="2286000"/>
            <a:ext cx="7086600" cy="2209680"/>
          </a:xfrm>
          <a:prstGeom prst="ellipse">
            <a:avLst/>
          </a:prstGeom>
          <a:gradFill rotWithShape="0">
            <a:gsLst>
              <a:gs pos="0">
                <a:srgbClr val="000099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143000" y="2514600"/>
            <a:ext cx="5715000" cy="1752480"/>
          </a:xfrm>
          <a:prstGeom prst="ellipse">
            <a:avLst/>
          </a:prstGeom>
          <a:gradFill rotWithShape="0">
            <a:gsLst>
              <a:gs pos="0">
                <a:srgbClr val="000099"/>
              </a:gs>
              <a:gs pos="100000">
                <a:srgbClr val="66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143000" y="2590920"/>
            <a:ext cx="4419720" cy="15238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ozwój technologii oprogramow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1143000" y="2895480"/>
            <a:ext cx="2743200" cy="990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219320" y="5181480"/>
            <a:ext cx="7238880" cy="457200"/>
          </a:xfrm>
          <a:prstGeom prst="rightArrow">
            <a:avLst>
              <a:gd name="adj1" fmla="val 50000"/>
              <a:gd name="adj2" fmla="val 39582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371600" y="3276720"/>
            <a:ext cx="1143000" cy="228600"/>
          </a:xfrm>
          <a:prstGeom prst="leftRightArrow">
            <a:avLst>
              <a:gd name="adj1" fmla="val 50000"/>
              <a:gd name="adj2" fmla="val 9953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516040" y="2941560"/>
            <a:ext cx="104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Szy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Kom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86200" y="2941560"/>
            <a:ext cx="158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słu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ystem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623200" y="2906640"/>
            <a:ext cx="122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a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plik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782040" y="2971800"/>
            <a:ext cx="12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erw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plik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630120" y="58672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ozwó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dsumowa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1750680" y="4724280"/>
            <a:ext cx="655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Postęp w tym zakresie jest możliwy poprz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weryfikację praktyczną koncepcji teoretycz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nych rozwiąza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219320" y="2666880"/>
            <a:ext cx="380880" cy="3812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752480" y="2666880"/>
            <a:ext cx="600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ykorzystanie zasobów sieciowych j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związane z konstrukcją nowoczesny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arstw pośrednicząc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143000" y="4724280"/>
            <a:ext cx="380880" cy="3812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562720" y="2057400"/>
            <a:ext cx="198108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2057400"/>
            <a:ext cx="266688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del  komunik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09480" y="266688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ezent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327672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es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05740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plik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449568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ie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510552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388620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ranspor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571500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22240" y="572616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izycz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9960" y="511668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Łącza da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3200" y="3276720"/>
            <a:ext cx="4648320" cy="304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342900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2666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2666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3657600"/>
            <a:ext cx="83844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52680" y="20970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2720" y="2133720"/>
            <a:ext cx="6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029200" y="4876920"/>
            <a:ext cx="2286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iddleware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"/>
          <p:cNvSpPr/>
          <p:nvPr/>
        </p:nvSpPr>
        <p:spPr>
          <a:xfrm>
            <a:off x="4269600" y="5638680"/>
            <a:ext cx="36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arstwa Pośredniczą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388620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CP 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441972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2286000"/>
            <a:ext cx="457200" cy="380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29000" y="2286000"/>
            <a:ext cx="457200" cy="380880"/>
          </a:xfrm>
          <a:prstGeom prst="rect">
            <a:avLst/>
          </a:prstGeom>
          <a:gradFill rotWithShape="0">
            <a:gsLst>
              <a:gs pos="0">
                <a:srgbClr val="d60093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rstwa pośredniczą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3429000" y="2133720"/>
            <a:ext cx="2286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iddleware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676520" y="3048120"/>
            <a:ext cx="14475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00cc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RBA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100000">
                    <a:srgbClr val="00cc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638680" y="3124080"/>
            <a:ext cx="1295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5e4675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COM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cc99ff"/>
                  </a:gs>
                  <a:gs pos="100000">
                    <a:srgbClr val="5e4675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1906560" y="3809880"/>
            <a:ext cx="82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4419720"/>
            <a:ext cx="200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66"/>
                </a:solidFill>
                <a:latin typeface="Arial"/>
              </a:rPr>
              <a:t>Microso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07640" y="5791320"/>
            <a:ext cx="510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Środowiska obiektow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504960" y="297180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00600" y="297180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114800" y="4038480"/>
            <a:ext cx="914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MI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"/>
          <p:cNvSpPr/>
          <p:nvPr/>
        </p:nvSpPr>
        <p:spPr>
          <a:xfrm>
            <a:off x="4194000" y="48006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95680" y="30481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biekt a Kompo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600200" y="2743200"/>
            <a:ext cx="1295280" cy="1143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9760" y="31240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peracj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2743200"/>
            <a:ext cx="13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peracj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79760" y="350532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peracja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75800" y="198108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fej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1676520"/>
            <a:ext cx="300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mplement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per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3124080"/>
            <a:ext cx="762120" cy="228600"/>
          </a:xfrm>
          <a:prstGeom prst="leftRightArrow">
            <a:avLst>
              <a:gd name="adj1" fmla="val 50000"/>
              <a:gd name="adj2" fmla="val 66368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2438280"/>
            <a:ext cx="1905120" cy="1676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29400" y="3446640"/>
            <a:ext cx="838080" cy="23328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81680" y="3089160"/>
            <a:ext cx="457200" cy="954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2889360"/>
            <a:ext cx="75960" cy="466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2784600"/>
            <a:ext cx="609840" cy="31104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2895480"/>
            <a:ext cx="152640" cy="155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276720"/>
            <a:ext cx="1143000" cy="152280"/>
          </a:xfrm>
          <a:prstGeom prst="leftRightArrow">
            <a:avLst>
              <a:gd name="adj1" fmla="val 50000"/>
              <a:gd name="adj2" fmla="val 149423"/>
            </a:avLst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29400" y="2438280"/>
            <a:ext cx="1295280" cy="1447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4724280"/>
            <a:ext cx="137160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Introspe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9120800">
            <a:off x="2437920" y="3962160"/>
            <a:ext cx="1447920" cy="304560"/>
          </a:xfrm>
          <a:prstGeom prst="leftRightArrow">
            <a:avLst>
              <a:gd name="adj1" fmla="val 50000"/>
              <a:gd name="adj2" fmla="val 94642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3200400"/>
            <a:ext cx="457200" cy="38088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3581280"/>
            <a:ext cx="457200" cy="38124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3581280"/>
            <a:ext cx="457200" cy="38124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76920" y="3200400"/>
            <a:ext cx="457200" cy="38088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71800" y="54100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5410080"/>
            <a:ext cx="137160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Bezpie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zeńst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4572000"/>
            <a:ext cx="137160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łącz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2866400">
            <a:off x="5105160" y="3962160"/>
            <a:ext cx="1447560" cy="152280"/>
          </a:xfrm>
          <a:prstGeom prst="leftRightArrow">
            <a:avLst>
              <a:gd name="adj1" fmla="val 50000"/>
              <a:gd name="adj2" fmla="val 189238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7826600">
            <a:off x="3127320" y="4600800"/>
            <a:ext cx="1295280" cy="304920"/>
          </a:xfrm>
          <a:prstGeom prst="leftRightArrow">
            <a:avLst>
              <a:gd name="adj1" fmla="val 50000"/>
              <a:gd name="adj2" fmla="val 8456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4271000">
            <a:off x="4533840" y="4609440"/>
            <a:ext cx="1447560" cy="152640"/>
          </a:xfrm>
          <a:prstGeom prst="leftRightArrow">
            <a:avLst>
              <a:gd name="adj1" fmla="val 50000"/>
              <a:gd name="adj2" fmla="val 188792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32280" y="542124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Autokon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14400" y="2057400"/>
            <a:ext cx="243828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2743200"/>
            <a:ext cx="1295640" cy="9907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86400" y="2286000"/>
            <a:ext cx="2438280" cy="160020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5029200"/>
            <a:ext cx="7238880" cy="14479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chitektura 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85800" y="4038480"/>
            <a:ext cx="7772400" cy="7621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cc99ff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3048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19920" y="30481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86600" y="5334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5334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5334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53341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3048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72200" y="358128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10280" y="3048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358128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66880" y="3048120"/>
            <a:ext cx="60984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358128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05120" y="358128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358128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0815000">
            <a:off x="7238520" y="48006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0815000">
            <a:off x="1294920" y="48006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0815000">
            <a:off x="1905120" y="480060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15000">
            <a:off x="6552720" y="48006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38280" y="5334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0815000">
            <a:off x="2590920" y="480060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41000" y="414036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R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21320" y="6019920"/>
            <a:ext cx="27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USLUGI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SYSTEMOWE COR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2362320"/>
            <a:ext cx="201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cc"/>
                </a:solidFill>
                <a:latin typeface="Arial"/>
              </a:rPr>
              <a:t>STANDARDOW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pl-PL" sz="1400" spc="-1" strike="noStrike">
                <a:solidFill>
                  <a:srgbClr val="0000cc"/>
                </a:solidFill>
                <a:latin typeface="Arial"/>
              </a:rPr>
              <a:t>APLIKAC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1981080"/>
            <a:ext cx="19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APLIKAC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UŻYTKOWNI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123720" y="2743200"/>
            <a:ext cx="838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362320" y="2285640"/>
            <a:ext cx="1600200" cy="609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39920" y="21528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26240" y="257508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ie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91320" y="53341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0815000">
            <a:off x="5866920" y="48006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71600" y="2971800"/>
            <a:ext cx="0" cy="8380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988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1500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0968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812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5308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46748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15328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omunikacja pomiędzy obiekt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838080" y="4648320"/>
            <a:ext cx="7772400" cy="7617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cc99ff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05120" y="2514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324480" y="2514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05320" y="2514600"/>
            <a:ext cx="60948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Cob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10080" y="2514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2514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29400" y="4267080"/>
            <a:ext cx="304920" cy="457200"/>
          </a:xfrm>
          <a:prstGeom prst="upArrow">
            <a:avLst>
              <a:gd name="adj1" fmla="val 50000"/>
              <a:gd name="adj2" fmla="val 37485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62920" y="2514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2514600"/>
            <a:ext cx="60948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4267080"/>
            <a:ext cx="304920" cy="457200"/>
          </a:xfrm>
          <a:prstGeom prst="upArrow">
            <a:avLst>
              <a:gd name="adj1" fmla="val 50000"/>
              <a:gd name="adj2" fmla="val 37485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3962520"/>
            <a:ext cx="281952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81480" y="3962520"/>
            <a:ext cx="29718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3352680"/>
            <a:ext cx="53352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924680" y="2514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Cob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3352680"/>
            <a:ext cx="53316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3352680"/>
            <a:ext cx="53316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4120" y="3352680"/>
            <a:ext cx="533160" cy="2286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43200" y="3352680"/>
            <a:ext cx="53352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3352680"/>
            <a:ext cx="533160" cy="2286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3352680"/>
            <a:ext cx="533520" cy="2286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848720" y="3352680"/>
            <a:ext cx="533160" cy="2286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628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4536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0748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728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5088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8876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5068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99200" y="4809960"/>
            <a:ext cx="13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I  I  O 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38280" y="4267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38280" y="5029200"/>
            <a:ext cx="43434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781680" y="42667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4876920"/>
            <a:ext cx="1219320" cy="228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752480" y="2819520"/>
            <a:ext cx="1143000" cy="99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dele organizacji syst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752480" y="2666880"/>
            <a:ext cx="114300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52480" y="4419720"/>
            <a:ext cx="1143000" cy="99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91320" y="2666880"/>
            <a:ext cx="114300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91320" y="3886200"/>
            <a:ext cx="1143000" cy="99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52480" y="4419720"/>
            <a:ext cx="1143000" cy="99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52480" y="4952880"/>
            <a:ext cx="1143000" cy="7621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91320" y="5486400"/>
            <a:ext cx="1143000" cy="7621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48520" y="48769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09680" y="3809880"/>
            <a:ext cx="228600" cy="609840"/>
          </a:xfrm>
          <a:prstGeom prst="upDownArrow">
            <a:avLst>
              <a:gd name="adj1" fmla="val 50000"/>
              <a:gd name="adj2" fmla="val 53107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48520" y="32767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95640" y="1827360"/>
            <a:ext cx="24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wupoziom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10080" y="182736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ójpoziom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222320" y="2678040"/>
            <a:ext cx="169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pl-PL" sz="2000" spc="-1" strike="noStrike">
                <a:solidFill>
                  <a:srgbClr val="3333cc"/>
                </a:solidFill>
                <a:latin typeface="Arial"/>
              </a:rPr>
              <a:t>Interfej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Arial"/>
              </a:rPr>
              <a:t>użytkown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91520" y="3932280"/>
            <a:ext cx="118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er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plik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4840" y="5486400"/>
            <a:ext cx="152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Urządz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9160" y="644688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S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20280" y="644688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N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onsekwencje modelu trójpoziom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447920" y="1905120"/>
            <a:ext cx="380880" cy="380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3480" y="1905120"/>
            <a:ext cx="519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iezależność konstrukcji serw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plikacji od interfejsu użytkown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47920" y="3048120"/>
            <a:ext cx="380880" cy="3808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64480" y="2971800"/>
            <a:ext cx="50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iezależność konstrukcji serw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plikacji od interfejsu dostępu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a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95680" y="403848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666880" y="4876920"/>
            <a:ext cx="48006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ożliwość standaryz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16640" y="6095880"/>
            <a:ext cx="430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Nowy poziom usług systemow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6T15:23:20Z</dcterms:created>
  <dc:creator>K.Z.</dc:creator>
  <dc:description/>
  <dc:language>en-US</dc:language>
  <cp:lastModifiedBy>K.Z.</cp:lastModifiedBy>
  <cp:lastPrinted>1998-09-21T07:40:02Z</cp:lastPrinted>
  <dcterms:modified xsi:type="dcterms:W3CDTF">1998-11-29T15:14:48Z</dcterms:modified>
  <cp:revision>46</cp:revision>
  <dc:subject/>
  <dc:title>Bez tytułu slajdu</dc:title>
</cp:coreProperties>
</file>