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732-80C2-42A5-8712-7E1AE06F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668-AB3B-4996-BD6F-70386A62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5B1-5F32-4191-92B6-4F0495AB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690-F48F-485F-91D4-95849CAE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A86-BCF5-4E4D-BE99-29115D6B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671-108F-48D6-8945-BBC50065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21C-47D9-43CF-AA67-1687960B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032-A39B-4D30-A19D-6E36D171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963-FFBE-4272-8CB0-4657D2F9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BBA-AE7C-4313-8F74-D1092F87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ADC-D6F5-4161-BE3F-7475950C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17F-7214-411F-A687-CE696BDA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8540-9CA8-4ED0-B11A-768A56A4E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438280"/>
            <a:ext cx="7086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ecjalizowane Aplikacj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 Systemie UNIX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gor Bokun 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5880" y="3352680"/>
            <a:ext cx="2362320" cy="10670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zas reakcji apl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143000" y="4648320"/>
            <a:ext cx="251460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33920" y="4648320"/>
            <a:ext cx="236196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5200" y="3505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2960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419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4038480"/>
            <a:ext cx="5029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4038480"/>
            <a:ext cx="9144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4038480"/>
            <a:ext cx="8380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51200" y="4834080"/>
            <a:ext cx="118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 syst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7160" y="480060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stem sa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tore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3800" y="4800600"/>
            <a:ext cx="1366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iver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ou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end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wak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5040" y="4800600"/>
            <a:ext cx="123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from  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5080" y="4800600"/>
            <a:ext cx="119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14840" y="48006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75440" y="37670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09360" y="346248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15920" y="342900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61040" y="437688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840" y="4343400"/>
            <a:ext cx="166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74880" y="1785960"/>
            <a:ext cx="78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66680" y="4800600"/>
            <a:ext cx="5257800" cy="1295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ełączanie kontek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143000" y="3733920"/>
            <a:ext cx="350532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7339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9600" y="22860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2209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3200400"/>
            <a:ext cx="53341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3733920"/>
            <a:ext cx="15238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8400" y="3809880"/>
            <a:ext cx="1197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7640" y="38862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99680" y="2819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1360" y="266688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75960" y="17859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9160" y="3809880"/>
            <a:ext cx="240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ow-priority process 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ources or provide input 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igher priority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37560" y="502920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Dispatch latency                 około 1 msec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17760" y="5622840"/>
            <a:ext cx="48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Przełączanie wątku             kilkaset razy szybs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5105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 pamięci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140120" y="2498760"/>
            <a:ext cx="667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agwarantowanie ciągłego obszaru obszaru pamięci dla wyko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u w pamięci operacyjnej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96960" y="350532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Memory  Locking              zapobiega wymianom s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3505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66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0800" y="4114800"/>
            <a:ext cx="2009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c0c0"/>
                </a:solidFill>
                <a:latin typeface="Times New Roman"/>
              </a:rPr>
              <a:t>Sun MediaCent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886200" y="3124080"/>
            <a:ext cx="4114800" cy="2057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3200400"/>
            <a:ext cx="1752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S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4419720"/>
            <a:ext cx="17524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4290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72428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4114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4680" y="3276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edia Stre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62880" y="441972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 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45400" y="3809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37200" y="3581280"/>
            <a:ext cx="9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w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3429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41148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77320" y="43434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77320" y="4572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77320" y="4800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77320" y="3657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8862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44956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4640" y="4114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88400" y="5370480"/>
            <a:ext cx="10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60" name="smc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562360" cy="3657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61" name=""/>
          <p:cNvSpPr/>
          <p:nvPr/>
        </p:nvSpPr>
        <p:spPr>
          <a:xfrm>
            <a:off x="687600" y="5867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4840" y="586728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 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96080" y="281952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62920" y="3124080"/>
            <a:ext cx="76176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19320" y="281952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3124080"/>
            <a:ext cx="76212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429000" y="23623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2590920"/>
            <a:ext cx="1143000" cy="53316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28954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70" idx="3"/>
            <a:endCxn id="371" idx="1"/>
          </p:cNvCxnSpPr>
          <p:nvPr/>
        </p:nvCxnSpPr>
        <p:spPr>
          <a:xfrm>
            <a:off x="5562720" y="2857320"/>
            <a:ext cx="129600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1523880" y="3657600"/>
            <a:ext cx="655344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5000" y="38098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16040" y="23623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495288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518148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5257800"/>
            <a:ext cx="13716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54864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7" idx="3"/>
            <a:endCxn id="378" idx="1"/>
          </p:cNvCxnSpPr>
          <p:nvPr/>
        </p:nvCxnSpPr>
        <p:spPr>
          <a:xfrm>
            <a:off x="4952880" y="5447880"/>
            <a:ext cx="6105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1906560" y="49528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434340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96080" y="5791320"/>
            <a:ext cx="838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781320" y="4648320"/>
            <a:ext cx="83844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81680" y="5410080"/>
            <a:ext cx="91440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7280" y="186516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666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772400" y="434340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888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434340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505320" y="388620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411480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44197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6" idx="3"/>
            <a:endCxn id="397" idx="1"/>
          </p:cNvCxnSpPr>
          <p:nvPr/>
        </p:nvCxnSpPr>
        <p:spPr>
          <a:xfrm>
            <a:off x="5638320" y="4381200"/>
            <a:ext cx="12963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1600200" y="5181480"/>
            <a:ext cx="655308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21320" y="533412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63760" y="35812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53240" y="338940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41911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2438280"/>
            <a:ext cx="121932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res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895480"/>
            <a:ext cx="106668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33160" y="47242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00" y="582768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Wizualizacja 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opóźnieniem  2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876920" y="28954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19720" y="224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Zapamiętan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form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666880" y="2895480"/>
            <a:ext cx="3657600" cy="2362320"/>
          </a:xfrm>
          <a:prstGeom prst="irregularSeal2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deo na żąd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352680" y="21337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50292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57400" y="4952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57913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209320" y="3124080"/>
            <a:ext cx="2057400" cy="11430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895480" y="3124080"/>
            <a:ext cx="1447920" cy="1676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3124080"/>
            <a:ext cx="75960" cy="25146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95680" y="3124080"/>
            <a:ext cx="1600200" cy="17528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3124080"/>
            <a:ext cx="2286000" cy="12193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62720" y="300816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o 50 strumie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30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057400"/>
            <a:ext cx="4648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pecjalizowane zastosowanie systemu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762120" y="259092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25146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Wykorzystanie systemu Linux do realizacji modułu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poller</a:t>
            </a: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 systemu ActiveBa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342900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Aplikacja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Abng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42900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4800600"/>
            <a:ext cx="38088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4114800"/>
            <a:ext cx="38088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4114800"/>
            <a:ext cx="380880" cy="304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51040" y="403848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LinuxPiccolo - specjalizowana wersja syst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4724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Systemy multimedialne wrażliwe na lokalizację użytkowni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1981080"/>
            <a:ext cx="38124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6040" y="59436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su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96252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51460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960" y="48769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a Abng-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640" y="3048120"/>
            <a:ext cx="526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e RT w systemie SOLARI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UN MEDIA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304812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487692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5410080"/>
            <a:ext cx="381240" cy="3812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7920" y="3962520"/>
            <a:ext cx="55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pecjalizowane aplikacje w syste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Lin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40800" y="2590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ybrane aspekty 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5320" y="54100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stem Linux Pic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6019920"/>
            <a:ext cx="381240" cy="3808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9000" y="198108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prowa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85800" y="2154240"/>
            <a:ext cx="7620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 Active Badge został zaprojektowany w Olivetti &amp; Oracle Research Laboratory (ORL) w Cambridge. Celem projektu było stworzenie infrastruktury sprzętowej oraz programowej, umożliwiającej realizację aplikacji wrażliwych na lokalizację osób i przedmiot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ykładowe zastosowania system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388620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3809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otwieranie drzwi w momencie, gdy osoba uprawniona do wejścia do danego pomieszczenia zbliży się do drzw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449568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441972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sterowanie oświetleniem na podstawie informacji o obecności osób w pomieszczeni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502920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49528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eleporting komputerowego środowiska pracy. Przejście osoby do innego pomieszczenia może spowodować przeniesienie środowiska graficznego na najbliższy kompu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586728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57913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teligentne rutowanie połączeń telefonicz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 sprzętowe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58" name="badge" descr=""/>
          <p:cNvPicPr/>
          <p:nvPr/>
        </p:nvPicPr>
        <p:blipFill>
          <a:blip r:embed="rId2"/>
          <a:srcRect l="56272" t="0" r="0" b="9129"/>
          <a:stretch/>
        </p:blipFill>
        <p:spPr>
          <a:xfrm>
            <a:off x="685800" y="1828800"/>
            <a:ext cx="143676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"/>
          <p:cNvSpPr/>
          <p:nvPr/>
        </p:nvSpPr>
        <p:spPr>
          <a:xfrm>
            <a:off x="2209680" y="1981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ywne plakietki noszone przez użytkowników systemu, bądź przytwierdzone do sprzę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sensor" descr=""/>
          <p:cNvPicPr/>
          <p:nvPr/>
        </p:nvPicPr>
        <p:blipFill>
          <a:blip r:embed="rId3"/>
          <a:stretch/>
        </p:blipFill>
        <p:spPr>
          <a:xfrm>
            <a:off x="6019920" y="1828800"/>
            <a:ext cx="244944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1" name=""/>
          <p:cNvSpPr/>
          <p:nvPr/>
        </p:nvSpPr>
        <p:spPr>
          <a:xfrm>
            <a:off x="457200" y="5029200"/>
            <a:ext cx="54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y rozmieszczone w pomieszczenia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bierające sygnały od plakietek. Komunikacja odbywa się za pośrednictwem podczerwie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69960" y="2093760"/>
            <a:ext cx="809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ystem Active Badge, który powstał na początku lat dziewięćdziesiątych oparty jest o środowisko programowania rozproszonego ANSAWare. Biorąc pod uwagę rozwój w dziedzinie systemów rozproszonych, a w szczególności wprowadzenie i rozpowszechnienie standardu CORBA, zaistniała konieczność zaprojektowania nowoczesnego następcy systemu Active Bad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4267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Active Badge next generation (ABng) jest rozproszonym, obiektowym systemem opartym o nowoczesną architekturę CORBA, w którym dużą uwagę skupiono na zagadnieniach skalowalności oraz elastycznoś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uł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2666880" y="2971800"/>
          <a:ext cx="3562560" cy="35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971800"/>
                    <a:ext cx="356256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685800" y="1752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dnym z elementów systemu Active Badge next generation jest ABng p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oller.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i on funkcje warstwy pośredniczącej pomiędzy sensorami a pozostałymi obiektami systemu. Jako platformę systemową do implementacji modułu wybrano system Lin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Linux na platformie PC/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09480" y="190512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rchitektura PC/104 została opracowana w 1992 roku w odpowiedzi na rosnące zapotrzebowanie na rozwiązanie zgodne ze standardową architekturą PC, dostosowane do zastosowań w tzw. systemach wbudowanych (embedd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327672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18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stawowe różnice pomiędzy urządzeniami PC/104 a tradycyjnymi P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mniejszone wymiary (3.6”x3.8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ewielki pobór mocy (1-2 W na modu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y standard złącza magistralowego, zapewniający większą niezawodność połączeń oraz możliwość łączenia modułów w 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4876920"/>
            <a:ext cx="816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ruchomienie systemu operacyjnego Linux na komputerach opartych o architekturę PC/104 nie przysparza większych problemów. Ze względu na dostępność kodu źródłowego systemu oraz aplikacji, Linux stanowi bardzo elastyczną, dojrzałą oraz łatwą w rozbudowie platformę dla systemów typu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embedded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yb pracy z wykorzystaniem Sieciowego Systemu Plików (N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"/>
          <p:cNvGraphicFramePr/>
          <p:nvPr/>
        </p:nvGraphicFramePr>
        <p:xfrm>
          <a:off x="1600200" y="2590920"/>
          <a:ext cx="5943600" cy="24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590920"/>
                    <a:ext cx="59436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ykorzystanie dysków typu </a:t>
            </a:r>
            <a:r>
              <a:rPr b="1" i="1" lang="pl-PL" sz="2800" spc="-1" strike="noStrike">
                <a:solidFill>
                  <a:srgbClr val="ffffff"/>
                </a:solidFill>
                <a:latin typeface="Times New Roman"/>
              </a:rPr>
              <a:t>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87" name="doc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125712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8" name=""/>
          <p:cNvSpPr/>
          <p:nvPr/>
        </p:nvSpPr>
        <p:spPr>
          <a:xfrm>
            <a:off x="669960" y="1865160"/>
            <a:ext cx="76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rzystanie NFS jest wygodne w początkowej fazie rozwoju systemu, kiedy występuje częsta aktualizacja plików (np. wskutek rekompilacji programu). Docelowo jednak urządzenie powinno być całkowicie niezależne od zewnętrznych serwis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1760" y="31608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mys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342900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mieścić obraz jądra systemu oraz root filesystem w pamięci Flash. W przypadku gdy istotna jest miniaturyzacja urządzenia, DiskOnChip firmy M-Systems wydaje się być optymalnym rozwiązan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7240" y="4952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yzwan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4981680"/>
            <a:ext cx="6568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Ze względu na stosunkowo wysoką cenę dysków typu Flash należy zmodyfikować system Linux, by rozmiar jądra oraz systemu plików, wraz z aplikacjami nie przekroczył 6-8 MB -&gt;</a:t>
            </a:r>
            <a:r>
              <a:rPr b="1" i="1" lang="pl-PL" sz="2000" spc="-1" strike="noStrike">
                <a:solidFill>
                  <a:srgbClr val="000099"/>
                </a:solidFill>
                <a:latin typeface="Arial"/>
              </a:rPr>
              <a:t> LinuxPiccolo</a:t>
            </a: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80880" y="6095880"/>
            <a:ext cx="87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* w sierpniu 1998 firma M-Systems wprowadziła to beta testów sterowniki DiskOnChip dla systemu Lin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190512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techniczn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2860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DiskOnChip dostarczany jest wyłącznie ze sterownikami dla systemów DOS, QNX oraz Windows 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9000" y="298620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wiązanie (tymczasowe?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2120" y="35496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ruchomić system pod kontrolą „systemu” DOS. Umieścić w pamięci RAM obraz systemu plików wraz z aplikacjami, a następnie wykorzystując program loadlin rozpocząć inicjalizację systemu Linux. Po otrzymaniu sterowania system Linux stworzy RAM dysk, w którym umieści wprowadzony obraz systemu plików „przekazany” z poziomu DOSa. Podstawową wadą tego rozwiązania jest tryb pracy read-only. W przypadku aplikacji ABng poller, ograniczenie to jest akceptowal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 - sche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4" name=""/>
          <p:cNvGraphicFramePr/>
          <p:nvPr/>
        </p:nvGraphicFramePr>
        <p:xfrm>
          <a:off x="1523880" y="1905120"/>
          <a:ext cx="5832720" cy="421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05120"/>
                    <a:ext cx="583272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za pośrednictwem WW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9" name=""/>
          <p:cNvGraphicFramePr/>
          <p:nvPr/>
        </p:nvGraphicFramePr>
        <p:xfrm>
          <a:off x="1371600" y="1981080"/>
          <a:ext cx="6624720" cy="354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66247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19320" y="5257800"/>
            <a:ext cx="24382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2133720"/>
            <a:ext cx="2286000" cy="2971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dencje rozwoju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47920" y="3048120"/>
            <a:ext cx="1447560" cy="70344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ff"/>
                </a:solidFill>
                <a:latin typeface="Arial"/>
              </a:rPr>
              <a:t>UN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9400" y="538956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Java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064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3320" y="17524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n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57800" y="2093760"/>
            <a:ext cx="214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QNX Soft.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RadiS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Mrcoware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hours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New Mexico Te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Unv. O\of Ari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133720"/>
            <a:ext cx="1524240" cy="2971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25520" y="2117880"/>
            <a:ext cx="1046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o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Q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iRM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Ly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OS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o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i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x-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Urządzenie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4" name="poller1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5043600" cy="38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liza przedstawionego rozwiąz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8" name="OldNew" descr=""/>
          <p:cNvPicPr/>
          <p:nvPr/>
        </p:nvPicPr>
        <p:blipFill>
          <a:blip r:embed="rId2"/>
          <a:stretch/>
        </p:blipFill>
        <p:spPr>
          <a:xfrm>
            <a:off x="4191120" y="2362320"/>
            <a:ext cx="4190760" cy="29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9" name=""/>
          <p:cNvSpPr/>
          <p:nvPr/>
        </p:nvSpPr>
        <p:spPr>
          <a:xfrm>
            <a:off x="609480" y="1752480"/>
            <a:ext cx="352116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czne zmniejszenie gabarytów urządz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konsoli, konfiguracja urządzenia odbywa się poprzez sie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iejszy pobór mo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części mechanicznych - zwiększenie niezawodności syst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uża stabilność systemu Linux, dostępność dojrzałych implementacji standardu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ska c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y multimedialne wrażliwe na lokalizacj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69960" y="2170080"/>
            <a:ext cx="771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łączenie rozwijanych w Katedrze Informatyki AGH systemów multimedialnych z infrastrukturą ABng daje możliwości prowadzenia badań nad nowym typem aplikacj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14400" y="32004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Aplikacji multimedialnych, wrażliwych na lokalizację użytkownik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3884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ykła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2240" y="4456080"/>
            <a:ext cx="771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mieszczone w budynku kamery na bieżąco „śledzą” daną osobę, dostarczając za pośrednictwem sieci komputerowej obraz do centrum monitor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49568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5408640"/>
            <a:ext cx="77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plikacje „follow me video”, w których sekwencje wideo  „podążają” za zmieniającym lokalizację użytkownik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548640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Rozwój aplikacji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2895480"/>
            <a:ext cx="1219320" cy="327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4343400"/>
            <a:ext cx="1219320" cy="18288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5257800"/>
            <a:ext cx="11430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Embe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5715000"/>
            <a:ext cx="106668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53360" y="1736640"/>
            <a:ext cx="14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Desktop 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Entr.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Main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23120" y="2666880"/>
            <a:ext cx="161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RTOS Vend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et-top bo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creen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ternet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ar Navi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5360" y="3870360"/>
            <a:ext cx="1543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dust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ontro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Prin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Hi-end P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87480" y="493704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Java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8160" y="434340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el Jav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87" name="architecture" descr=""/>
          <p:cNvPicPr/>
          <p:nvPr/>
        </p:nvPicPr>
        <p:blipFill>
          <a:blip r:embed="rId2"/>
          <a:stretch/>
        </p:blipFill>
        <p:spPr>
          <a:xfrm>
            <a:off x="1143000" y="1976400"/>
            <a:ext cx="67057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tawowe cechy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3880" y="21337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960" y="21337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 wąt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895480"/>
            <a:ext cx="381240" cy="381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9360" y="28195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riorytet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800" y="350532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łączanie kontek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5053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502920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34340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6400" y="42670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amię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5680" y="502920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rządzenia WE/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81080" y="6019920"/>
            <a:ext cx="464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ari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wąt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8800" y="4952880"/>
            <a:ext cx="601992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20040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362320"/>
            <a:ext cx="68580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362320"/>
            <a:ext cx="83844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362320"/>
            <a:ext cx="121896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362320"/>
            <a:ext cx="144792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800600"/>
            <a:ext cx="30456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373392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8098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2590920"/>
            <a:ext cx="117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51460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8098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105520" y="2971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2971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5744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705720" y="2895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7640" y="2666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743200" y="4495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7339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96252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114440" y="4038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14800" y="40384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14440" y="403848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114440" y="4038480"/>
            <a:ext cx="297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562720"/>
            <a:ext cx="304560" cy="30456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6172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3720" y="563868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6960" y="61722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L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0200" y="516564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5320" y="37339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4960" y="2335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oces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438280" y="1981080"/>
            <a:ext cx="1752840" cy="838440"/>
          </a:xfrm>
          <a:prstGeom prst="ellipse">
            <a:avLst/>
          </a:prstGeom>
          <a:gradFill rotWithShape="0">
            <a:gsLst>
              <a:gs pos="0">
                <a:srgbClr val="660066"/>
              </a:gs>
              <a:gs pos="50000">
                <a:srgbClr val="9933ff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350532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502920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34290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in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50292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2438280"/>
            <a:ext cx="1904760" cy="990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4267080"/>
            <a:ext cx="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41008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89680" y="26240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63080" y="445284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80560" y="35384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952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3440" y="449568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6160" y="300528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7880" y="300528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ssign 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43000" y="4529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ioryte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37160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2362320"/>
            <a:ext cx="609480" cy="365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3200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38098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4956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50292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629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6386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2920" y="191628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lass-spefic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61560" y="266688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eal-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8600" y="38862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61920" y="5105520"/>
            <a:ext cx="145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ime-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9040" y="18129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91680" y="1812960"/>
            <a:ext cx="88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12560" y="1905120"/>
            <a:ext cx="12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3960" y="1905120"/>
            <a:ext cx="87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lob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49360" y="24987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44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L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0080" y="25146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igh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6760" y="57913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Lo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DSRG</cp:lastModifiedBy>
  <cp:lastPrinted>1998-09-21T07:40:02Z</cp:lastPrinted>
  <dcterms:modified xsi:type="dcterms:W3CDTF">1998-11-23T08:50:38Z</dcterms:modified>
  <cp:revision>51</cp:revision>
  <dc:subject/>
  <dc:title>Bez tytułu slajdu</dc:title>
</cp:coreProperties>
</file>